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16.png" ContentType="image/png"/>
  <Override PartName="/ppt/media/image15.png" ContentType="image/png"/>
  <Override PartName="/ppt/media/image5.jpeg" ContentType="image/jpe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4F996-C190-4A5C-8D00-C8ADD2C1B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C0A02-66D5-4E5F-995B-3920A67F2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7D1162-C2C5-433D-BC38-714BEC3FBD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7FF2E3-B9DB-435E-9BFA-B350F7EEC8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F9DBD0-A9E5-41CF-84C9-C32A42C6B3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838D79-7639-4CBE-B2D7-2375F2653A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D7E148-9186-4407-A287-1D6EAE79E9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4B823F-CE3E-440C-B895-983CCEA3B5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417D63-B25F-4890-B86C-EE7D4BE86A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9D3005-0750-4471-863F-A21CAD1C2F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36E605-2766-4653-AFAD-079B4E823D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172A789-FB55-479B-9607-DF57DFA863C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C1334-D635-4900-A378-46B56FBFE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C06271-BCE4-4DBE-A31F-F880BE7C64B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35863A-9905-4E42-8139-1B9E11A2501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110FF4-0921-4402-9BB3-83C2DAD224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886DD3-399B-4EC4-BA12-36E52EAF51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341CC3-39D6-42B9-9939-736BCC084A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E49605-D931-49BD-A280-D187B2B2AF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3CD3EB-112A-45B1-9B13-F363994F0D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0D17BD-CEB5-4DA3-AD5C-915FFFC1D7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9B174C6-34A3-466B-9785-7E11276127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386BD00-4085-46A1-B2D1-9F2AC9D716B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AB154-E2F8-4221-AA3E-A1696B7D4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531D00E-F803-45F4-952A-8CCC6DA61B9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5417D93-6D7A-4F2A-BBD9-C0B5D89C3E7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CA2990-D771-45C1-BDF7-262BCC614B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2B035A-1497-4A7B-BA23-573E2EA016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949369-5F19-4953-A9C8-2867620E21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00374E-FDD0-4E2A-92D3-92B0A54840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9637A6-7488-498C-8413-A1FF4A53A6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4F5F14-60C9-48E4-A052-9C2D8CFCB6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A9D70D-CD39-42BD-916A-8FAFA2936B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A1D250-4638-4D4F-8911-F15977E323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9A6F9A-8770-43A8-B0B2-C46B39B07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8EAAAB-70FA-4939-B4FB-1803F73120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529DEEA-E3D0-4E19-8777-1E0CE0BB225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1D8B2FD-B5EA-414C-BBB5-B26B1B5C569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2E48D6F-9073-4FA4-820E-188B6D86408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441844-E051-4463-8B57-FAD92AA970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2038D3-A3D7-4E00-9C93-AC43172C6A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8F695D-52C3-4339-94B7-5487C97AD7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6CFAE0-5467-4B81-91AC-79A86E3B08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462D5FD-1CCC-4583-B578-C5A2B2F2DB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F2A68B-189F-4E3B-8FAD-83E80E8BE6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78F88-1466-4B63-80D1-4A885338A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85BD23-166A-483C-A376-CA9570A917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FFFAE6A-4C07-48F0-B681-91A36CD5B1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36E663-537D-4670-95DD-860C7F33D2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ED69915-CDA7-499F-B6A2-6BB8388C4BD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7C02654-B0C1-454D-B83E-0681F827364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2B7A15E-CA57-4C74-BB85-56BE52D3688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C511BB9-EFA0-49DA-BBFD-7AA5A494824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A9B62B0-8DA9-420A-A34E-85BD8FB453C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6B858F5-0AC2-4375-9F7C-FF642864625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7E9714B-AE9E-40AC-98B5-78491FCAE58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E802C-5E20-48B6-8CD2-A3CC5F43E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49E7373-1C52-463F-B9AC-DCA2EA29299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EEBFAA5-4A69-48BC-9672-DC56B773296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034822E-44D8-4BC4-BE48-7520AD4CA9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1B13A16-3CFD-40E3-B9B5-65F7DA5FAA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5E41676-7154-4C24-8E89-AC0B40C92D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0ABBACE-77C2-4A59-BD50-189585E9C5D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FC0E07F-A074-482D-B9E5-6BD5AF95FBA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6F46D4A-78AB-4EF9-ABB6-13190E8DA82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28C289F-3AE5-45D9-90DC-8D677D71ED8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CE24ACE-3204-4B3C-BF1B-490911ADF8C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F9CD1-63B3-48E9-812C-1DF74F225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20BC541-1E97-4D3F-ABC6-9987C9E954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ECCD135-6C02-4FCE-9586-9B58DE55387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9238494-647C-454E-B13B-36ACAB31FDE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B48DF43-5D80-4EF5-B2D6-79431140B9A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905ED1-C728-4252-8C34-A7059CD8331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05D5DC5-F81F-41C6-9BB6-DA7958A1FBC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521EB4B-9B38-4CF7-ACFE-7DDC1FC3B1E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C96CEE0-59D4-435F-AC01-77A711C25E2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46B547A-2465-460E-B131-C1682DED8E0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CC9A3-E200-4C4F-9B31-C54015044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0739A-E6F9-4AF4-8DA6-FAFE09F0E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82479-654C-44CB-9D9A-88EA0E982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A1C7B-BA41-4742-8237-DAB6E1182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C7C55-0F15-4F13-A125-1EA2F64DF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FD323-24AA-412C-BD3B-99840A1F3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865FD-3F20-47C2-9A50-353E0FE41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AEDCC-C416-4471-BD00-CD852BEA5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C679BE-D12A-4557-B69D-8F95571FED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A95586-D8D9-4546-AD39-184C929DD0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F9CD87-F7CD-42AA-9D18-4E032EE702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0B1226-D83D-46A1-8533-1A337D587E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99C5CE-DDC6-4964-AAC6-50F1D8A503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329DCE-D3F9-4726-943F-7F25D71A61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3CF5A-7251-43FA-9BEB-282CD4F8C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078690-6538-40D5-BD2C-48956667CE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AFDE6A-D491-49FA-AB71-BD0768392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4BDD44-2427-4CB5-89A0-0742295DDD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9011CE-14C9-4D15-9991-A5952401C4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CA5B74-D5FF-4F28-9DFD-BDD53A3BD5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D774E6-4105-4BFA-BD6C-E738154EB4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0CF73F-08C2-4C23-8895-EE21EDE011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AD27AC-88E5-4C27-BF50-A72B8E0248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824D32-416B-4C7E-B598-68FD01F0D7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06A1FC-7B7E-45A6-935C-783F9155D3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93753-1BC8-407E-8411-A92E4ECBC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8BC7F7-D7CC-488A-80A7-52B9F3BFC3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338F84-046B-4D30-A1C0-B92AE8C152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37F23E-A4E5-4E21-9089-28BDE5BA1C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D2EE36-1030-43B2-AEC2-2C21BE3B65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CA2E32-DCFC-4C36-A0CC-0C4533974D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E7D369-88A0-486F-A713-F215A2B851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72C154-185D-48CD-8811-4C111365E4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5C94E1-B47B-4666-A3D0-D36D2DADB9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961496-A5D0-4132-9063-54388818F1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B45425-A24C-4E7D-8EA6-AFBAF39533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4947B-EED6-40C7-BDBA-7DB884BCB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5FD9ED-4FEC-4F13-AA0B-2E4429C0F8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A8B72B-DE0E-43E2-B57C-9330448F89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DEB501-DB43-420A-8093-703F2AC1EF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7211A8-7370-48DE-A6CA-0BA2A8FDDF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DAAA20-556D-48A9-8247-B73F87429D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64098A-0057-4766-A74E-3D8E68D526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70E3C6-2C6B-4829-9BA0-7F8EE21CE1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C80A19-2946-46B5-ABBB-BBEDEEF37E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267A08-92B3-4DB5-935B-202CB14013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24AC69-0001-457F-B0F8-014DEE236B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8F735-591D-484E-9BC6-EFA6ACDE5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31567E-0C3A-429C-87C2-FF268AC0BC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916807-2908-406C-BEFF-E45FB68D79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D16242-E411-47AA-8973-FD5C6CE710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EA3105-A9A5-4BDC-8CDF-9941E30B5A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36CAA7-E42E-4767-A8AB-6D97EDC96A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2CEFA1-2033-4BA8-BB85-7B162B8653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9B2BAC-A123-4D0E-8E8F-BC8C260F11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87D4ED-E5F6-4451-AC27-972D659F37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A19B8F-F4F5-4AEC-BC08-2D9BA8B099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86965B-5656-4F74-9FAD-6DE60F1A3A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A3C4E-A6F2-43FC-937C-67CF89A77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6FBC20-746E-42E3-B6C5-4528CC07F8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1A0BE6-B15F-48BE-96D9-5B42D594A0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D3C887-346A-4C1E-862A-ECBFFF35CF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A6C7F7-CAEA-4CE6-AF7C-8ECF421BC2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3D9D6E-4E26-4E75-B12D-E087DC481B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B03087-7089-43D8-A342-4050BC9E7D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7EDD13-512F-4CAB-BF6C-5B09C7392D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0292F2-8D20-4970-A284-1C6AFC8F99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03DB51-908B-4646-BD45-47C70D96C4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449227-5243-4819-8FCA-A920D22FFA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AF228-3991-4B50-9CA0-1F47B4FF7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5C9450-45EB-4EE6-82A4-CC4EA3E69D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7AE8A5-98DE-4930-B14F-05A22A3899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99EE6B-3801-41F7-9969-0DA6FDDEE3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D42199-8583-4E3A-8D76-A5B5D1D263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751F52-D315-42FC-B5B3-614189FC97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6F536C-7408-4F55-B18C-F19C125312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A5CB12-DC8F-409F-B954-7BEDF91174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90051C-BE73-45F6-A7B7-386B6B4BD6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5A8B29-3104-4249-8983-CC74ACD620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13DDA4-DAAC-48B3-A9EE-F199CEB737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9A90E-BBEA-4A79-8015-EA54E0D1D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FC5E52-020A-4AD3-BFB0-68B50560FF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77ADCB-978A-4983-8FE5-66002CE093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29CC06-95F5-492E-A1FE-D6B7F2853B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3B3C49-4A04-4691-A048-D763AE6763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14324C-792B-46B1-AC81-F2F4179026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44C80A-99FF-43FC-BC17-ABB5AFCF3A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0DDF21-C215-4127-B2A2-3E6E381019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2BA843-32AF-464C-9644-372D3ED1B9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0E9F78-5E86-44FE-9B1F-C604FE8BD0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8B2C30-92C4-45DC-AE8D-500D1F8C738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6EA0-2D33-4E4D-A6E6-720114785FA2}" type="slidenum">
              <a:rPr b="0" lang="de-CH"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ACF7-73E8-4A9C-8647-E31B8178FFE8}"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4F592-9834-47EE-B41E-1A0215AC0139}"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B6C2-EF39-4053-B721-3049667284F1}"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DF1D9-1970-4683-8247-33E539B0E4DC}"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AB20-C3AD-42F4-BB83-08A3B5DEB823}"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6016E-4385-4FF9-A3FD-756711A2E690}"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EA4F-AA90-40CF-B728-501983E56582}"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D8ED5-D66D-4B09-97EA-D4EDA7E89965}"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506A-8760-4E00-8A0E-3B3C89C7E4FC}"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04F5-B0E6-4FCF-8BDA-2213EC092EF3}"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E6159-44B3-47DA-A983-BC8F618C8F04}"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55B3B-C2D9-4274-8584-45ECB52A9513}"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2D40-DB10-4E5D-AAC6-6FD069F0504A}"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oleObject" Target="../embeddings/oleObject1.bin"/><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03280" y="1844640"/>
            <a:ext cx="864072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de-CH" sz="4400" spc="-1" strike="noStrike">
                <a:solidFill>
                  <a:srgbClr val="004300"/>
                </a:solidFill>
                <a:latin typeface="Humanist777BT-LightB"/>
              </a:rPr>
              <a:t>Glück, Einkommen und Wohnen</a:t>
            </a:r>
            <a:br>
              <a:rPr sz="4400"/>
            </a:br>
            <a:endParaRPr b="0" lang="en-US" sz="4400" spc="-1" strike="noStrike">
              <a:solidFill>
                <a:srgbClr val="000000"/>
              </a:solidFill>
              <a:latin typeface="Arial"/>
            </a:endParaRPr>
          </a:p>
        </p:txBody>
      </p:sp>
      <p:sp>
        <p:nvSpPr>
          <p:cNvPr id="575" name="PlaceHolder 2"/>
          <p:cNvSpPr>
            <a:spLocks noGrp="1"/>
          </p:cNvSpPr>
          <p:nvPr>
            <p:ph type="subTitle"/>
          </p:nvPr>
        </p:nvSpPr>
        <p:spPr>
          <a:xfrm>
            <a:off x="1373040" y="4021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Prof. Dr. Mathias Binswanger</a:t>
            </a:r>
            <a:endParaRPr b="0" lang="en-US" sz="3200" spc="-1" strike="noStrike">
              <a:solidFill>
                <a:srgbClr val="000000"/>
              </a:solidFill>
              <a:latin typeface="Arial"/>
            </a:endParaRPr>
          </a:p>
        </p:txBody>
      </p:sp>
      <p:pic>
        <p:nvPicPr>
          <p:cNvPr id="576" name="Picture 13" descr="FHNW 10%"/>
          <p:cNvPicPr/>
          <p:nvPr/>
        </p:nvPicPr>
        <p:blipFill>
          <a:blip r:embed="rId1"/>
          <a:stretch/>
        </p:blipFill>
        <p:spPr>
          <a:xfrm>
            <a:off x="4494240" y="3411360"/>
            <a:ext cx="156960" cy="35280"/>
          </a:xfrm>
          <a:prstGeom prst="rect">
            <a:avLst/>
          </a:prstGeom>
          <a:ln w="0">
            <a:noFill/>
          </a:ln>
        </p:spPr>
      </p:pic>
      <p:pic>
        <p:nvPicPr>
          <p:cNvPr id="577" name="Picture 14" descr="FHNW 10%"/>
          <p:cNvPicPr/>
          <p:nvPr/>
        </p:nvPicPr>
        <p:blipFill>
          <a:blip r:embed="rId2"/>
          <a:stretch/>
        </p:blipFill>
        <p:spPr>
          <a:xfrm>
            <a:off x="4494240" y="3411360"/>
            <a:ext cx="156960" cy="35280"/>
          </a:xfrm>
          <a:prstGeom prst="rect">
            <a:avLst/>
          </a:prstGeom>
          <a:ln w="0">
            <a:noFill/>
          </a:ln>
        </p:spPr>
      </p:pic>
      <p:pic>
        <p:nvPicPr>
          <p:cNvPr id="578" name="Picture 15" descr="FHNW 10%"/>
          <p:cNvPicPr/>
          <p:nvPr/>
        </p:nvPicPr>
        <p:blipFill>
          <a:blip r:embed="rId3"/>
          <a:stretch/>
        </p:blipFill>
        <p:spPr>
          <a:xfrm>
            <a:off x="4494240" y="3411360"/>
            <a:ext cx="156960" cy="35280"/>
          </a:xfrm>
          <a:prstGeom prst="rect">
            <a:avLst/>
          </a:prstGeom>
          <a:ln w="0">
            <a:noFill/>
          </a:ln>
        </p:spPr>
      </p:pic>
      <p:pic>
        <p:nvPicPr>
          <p:cNvPr id="579" name="Picture 16" descr="FHNW 10%"/>
          <p:cNvPicPr/>
          <p:nvPr/>
        </p:nvPicPr>
        <p:blipFill>
          <a:blip r:embed="rId4"/>
          <a:stretch/>
        </p:blipFill>
        <p:spPr>
          <a:xfrm>
            <a:off x="4494240" y="3411360"/>
            <a:ext cx="156960" cy="35280"/>
          </a:xfrm>
          <a:prstGeom prst="rect">
            <a:avLst/>
          </a:prstGeom>
          <a:ln w="0">
            <a:noFill/>
          </a:ln>
        </p:spPr>
      </p:pic>
      <p:sp>
        <p:nvSpPr>
          <p:cNvPr id="580" name="Rectangle 19"/>
          <p:cNvSpPr/>
          <p:nvPr/>
        </p:nvSpPr>
        <p:spPr>
          <a:xfrm>
            <a:off x="0" y="2708280"/>
            <a:ext cx="738360" cy="3079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1" name="Object 21"/>
          <p:cNvGraphicFramePr/>
          <p:nvPr/>
        </p:nvGraphicFramePr>
        <p:xfrm>
          <a:off x="250920" y="260280"/>
          <a:ext cx="3276360" cy="752400"/>
        </p:xfrm>
        <a:graphic>
          <a:graphicData uri="http://schemas.openxmlformats.org/presentationml/2006/ole">
            <p:oleObj r:id="rId5" spid="">
              <p:embed/>
              <p:pic>
                <p:nvPicPr>
                  <p:cNvPr id="582" name="Object 21" descr=""/>
                  <p:cNvPicPr/>
                  <p:nvPr/>
                </p:nvPicPr>
                <p:blipFill>
                  <a:blip r:embed="rId6"/>
                  <a:stretch/>
                </p:blipFill>
                <p:spPr>
                  <a:xfrm>
                    <a:off x="250920" y="260280"/>
                    <a:ext cx="3276360" cy="75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3" name="Group 96"/>
          <p:cNvGrpSpPr/>
          <p:nvPr/>
        </p:nvGrpSpPr>
        <p:grpSpPr>
          <a:xfrm>
            <a:off x="1219320" y="609480"/>
            <a:ext cx="6629040" cy="6019920"/>
            <a:chOff x="1219320" y="609480"/>
            <a:chExt cx="6629040" cy="6019920"/>
          </a:xfrm>
        </p:grpSpPr>
        <p:grpSp>
          <p:nvGrpSpPr>
            <p:cNvPr id="604" name="Group 94"/>
            <p:cNvGrpSpPr/>
            <p:nvPr/>
          </p:nvGrpSpPr>
          <p:grpSpPr>
            <a:xfrm>
              <a:off x="1224360" y="612000"/>
              <a:ext cx="6617880" cy="6014160"/>
              <a:chOff x="1224360" y="612000"/>
              <a:chExt cx="6617880" cy="6014160"/>
            </a:xfrm>
          </p:grpSpPr>
          <p:grpSp>
            <p:nvGrpSpPr>
              <p:cNvPr id="605" name="Group 975"/>
              <p:cNvGrpSpPr/>
              <p:nvPr/>
            </p:nvGrpSpPr>
            <p:grpSpPr>
              <a:xfrm>
                <a:off x="1224360" y="612000"/>
                <a:ext cx="1806480" cy="555840"/>
                <a:chOff x="1224360" y="612000"/>
                <a:chExt cx="1806480" cy="555840"/>
              </a:xfrm>
            </p:grpSpPr>
            <p:sp>
              <p:nvSpPr>
                <p:cNvPr id="606" name="Rectangle 902"/>
                <p:cNvSpPr/>
                <p:nvPr/>
              </p:nvSpPr>
              <p:spPr>
                <a:xfrm>
                  <a:off x="1273680" y="612000"/>
                  <a:ext cx="1707480" cy="555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Tätigkeit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974"/>
                <p:cNvSpPr/>
                <p:nvPr/>
              </p:nvSpPr>
              <p:spPr>
                <a:xfrm>
                  <a:off x="1224360" y="612000"/>
                  <a:ext cx="1806480" cy="5558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Group 977"/>
              <p:cNvGrpSpPr/>
              <p:nvPr/>
            </p:nvGrpSpPr>
            <p:grpSpPr>
              <a:xfrm>
                <a:off x="3031200" y="612000"/>
                <a:ext cx="1501560" cy="555840"/>
                <a:chOff x="3031200" y="612000"/>
                <a:chExt cx="1501560" cy="555840"/>
              </a:xfrm>
            </p:grpSpPr>
            <p:sp>
              <p:nvSpPr>
                <p:cNvPr id="609" name="Rectangle 903"/>
                <p:cNvSpPr/>
                <p:nvPr/>
              </p:nvSpPr>
              <p:spPr>
                <a:xfrm>
                  <a:off x="3080520" y="612000"/>
                  <a:ext cx="1402920" cy="555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Glücksinde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976"/>
                <p:cNvSpPr/>
                <p:nvPr/>
              </p:nvSpPr>
              <p:spPr>
                <a:xfrm>
                  <a:off x="3031200" y="612000"/>
                  <a:ext cx="1501560" cy="5558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1" name="Group 979"/>
              <p:cNvGrpSpPr/>
              <p:nvPr/>
            </p:nvGrpSpPr>
            <p:grpSpPr>
              <a:xfrm>
                <a:off x="4533120" y="612000"/>
                <a:ext cx="1654200" cy="555840"/>
                <a:chOff x="4533120" y="612000"/>
                <a:chExt cx="1654200" cy="555840"/>
              </a:xfrm>
            </p:grpSpPr>
            <p:sp>
              <p:nvSpPr>
                <p:cNvPr id="612" name="Rectangle 904"/>
                <p:cNvSpPr/>
                <p:nvPr/>
              </p:nvSpPr>
              <p:spPr>
                <a:xfrm>
                  <a:off x="4582800" y="612000"/>
                  <a:ext cx="1555200" cy="555840"/>
                </a:xfrm>
                <a:prstGeom prst="rect">
                  <a:avLst/>
                </a:prstGeom>
                <a:noFill/>
                <a:ln w="0">
                  <a:noFill/>
                </a:ln>
              </p:spPr>
              <p:style>
                <a:lnRef idx="0"/>
                <a:fillRef idx="0"/>
                <a:effectRef idx="0"/>
                <a:fontRef idx="minor"/>
              </p:style>
              <p:txBody>
                <a:bodyPr lIns="90000" rIns="90000" tIns="46800" bIns="46800" anchor="t">
                  <a:normAutofit fontScale="8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Für die Tätigkeit aufgewendete Zeit (in Stund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978"/>
                <p:cNvSpPr/>
                <p:nvPr/>
              </p:nvSpPr>
              <p:spPr>
                <a:xfrm>
                  <a:off x="4533120" y="612000"/>
                  <a:ext cx="1654200" cy="5558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Group 981"/>
              <p:cNvGrpSpPr/>
              <p:nvPr/>
            </p:nvGrpSpPr>
            <p:grpSpPr>
              <a:xfrm>
                <a:off x="6188040" y="612000"/>
                <a:ext cx="1654200" cy="555840"/>
                <a:chOff x="6188040" y="612000"/>
                <a:chExt cx="1654200" cy="555840"/>
              </a:xfrm>
            </p:grpSpPr>
            <p:sp>
              <p:nvSpPr>
                <p:cNvPr id="615" name="Rectangle 905"/>
                <p:cNvSpPr/>
                <p:nvPr/>
              </p:nvSpPr>
              <p:spPr>
                <a:xfrm>
                  <a:off x="6237720" y="612000"/>
                  <a:ext cx="1554840" cy="555840"/>
                </a:xfrm>
                <a:prstGeom prst="rect">
                  <a:avLst/>
                </a:prstGeom>
                <a:noFill/>
                <a:ln w="0">
                  <a:noFill/>
                </a:ln>
              </p:spPr>
              <p:style>
                <a:lnRef idx="0"/>
                <a:fillRef idx="0"/>
                <a:effectRef idx="0"/>
                <a:fontRef idx="minor"/>
              </p:style>
              <p:txBody>
                <a:bodyPr lIns="90000" rIns="90000" tIns="46800" bIns="46800" anchor="t">
                  <a:normAutofit fontScale="8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Prozentzahl der Frauen, welche Tätigkeit ausführ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980"/>
                <p:cNvSpPr/>
                <p:nvPr/>
              </p:nvSpPr>
              <p:spPr>
                <a:xfrm>
                  <a:off x="6188040" y="612000"/>
                  <a:ext cx="1654200" cy="5558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Group 983"/>
              <p:cNvGrpSpPr/>
              <p:nvPr/>
            </p:nvGrpSpPr>
            <p:grpSpPr>
              <a:xfrm>
                <a:off x="1224360" y="1167840"/>
                <a:ext cx="1806480" cy="295560"/>
                <a:chOff x="1224360" y="1167840"/>
                <a:chExt cx="1806480" cy="295560"/>
              </a:xfrm>
            </p:grpSpPr>
            <p:sp>
              <p:nvSpPr>
                <p:cNvPr id="618" name="Rectangle 906"/>
                <p:cNvSpPr/>
                <p:nvPr/>
              </p:nvSpPr>
              <p:spPr>
                <a:xfrm>
                  <a:off x="1273680" y="1167840"/>
                  <a:ext cx="170748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99cc00"/>
                      </a:solidFill>
                      <a:latin typeface="Arial"/>
                      <a:ea typeface="Times New Roman"/>
                    </a:rPr>
                    <a:t>Se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982"/>
                <p:cNvSpPr/>
                <p:nvPr/>
              </p:nvSpPr>
              <p:spPr>
                <a:xfrm>
                  <a:off x="1224360" y="1167840"/>
                  <a:ext cx="180648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Group 985"/>
              <p:cNvGrpSpPr/>
              <p:nvPr/>
            </p:nvGrpSpPr>
            <p:grpSpPr>
              <a:xfrm>
                <a:off x="3031200" y="1167840"/>
                <a:ext cx="1501560" cy="295560"/>
                <a:chOff x="3031200" y="1167840"/>
                <a:chExt cx="1501560" cy="295560"/>
              </a:xfrm>
            </p:grpSpPr>
            <p:sp>
              <p:nvSpPr>
                <p:cNvPr id="621" name="Rectangle 907"/>
                <p:cNvSpPr/>
                <p:nvPr/>
              </p:nvSpPr>
              <p:spPr>
                <a:xfrm>
                  <a:off x="3080520" y="1167840"/>
                  <a:ext cx="140292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99cc00"/>
                      </a:solidFill>
                      <a:latin typeface="Arial"/>
                      <a:ea typeface="Times New Roman"/>
                    </a:rPr>
                    <a:t>4.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Rectangle 984"/>
                <p:cNvSpPr/>
                <p:nvPr/>
              </p:nvSpPr>
              <p:spPr>
                <a:xfrm>
                  <a:off x="3031200" y="1167840"/>
                  <a:ext cx="150156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Group 987"/>
              <p:cNvGrpSpPr/>
              <p:nvPr/>
            </p:nvGrpSpPr>
            <p:grpSpPr>
              <a:xfrm>
                <a:off x="4533120" y="1167840"/>
                <a:ext cx="1654200" cy="295560"/>
                <a:chOff x="4533120" y="1167840"/>
                <a:chExt cx="1654200" cy="295560"/>
              </a:xfrm>
            </p:grpSpPr>
            <p:sp>
              <p:nvSpPr>
                <p:cNvPr id="624" name="Rectangle 908"/>
                <p:cNvSpPr/>
                <p:nvPr/>
              </p:nvSpPr>
              <p:spPr>
                <a:xfrm>
                  <a:off x="4582800" y="1167840"/>
                  <a:ext cx="155520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99cc00"/>
                      </a:solidFill>
                      <a:latin typeface="Arial"/>
                      <a:ea typeface="Times New Roman"/>
                    </a:rPr>
                    <a:t>0.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Rectangle 986"/>
                <p:cNvSpPr/>
                <p:nvPr/>
              </p:nvSpPr>
              <p:spPr>
                <a:xfrm>
                  <a:off x="4533120" y="116784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Group 989"/>
              <p:cNvGrpSpPr/>
              <p:nvPr/>
            </p:nvGrpSpPr>
            <p:grpSpPr>
              <a:xfrm>
                <a:off x="6188040" y="1167840"/>
                <a:ext cx="1654200" cy="295560"/>
                <a:chOff x="6188040" y="1167840"/>
                <a:chExt cx="1654200" cy="295560"/>
              </a:xfrm>
            </p:grpSpPr>
            <p:sp>
              <p:nvSpPr>
                <p:cNvPr id="627" name="Rectangle 909"/>
                <p:cNvSpPr/>
                <p:nvPr/>
              </p:nvSpPr>
              <p:spPr>
                <a:xfrm>
                  <a:off x="6237720" y="1167840"/>
                  <a:ext cx="155484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99cc00"/>
                      </a:solidFill>
                      <a:latin typeface="Arial"/>
                      <a:ea typeface="Times New Roman"/>
                    </a:rPr>
                    <a:t>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988"/>
                <p:cNvSpPr/>
                <p:nvPr/>
              </p:nvSpPr>
              <p:spPr>
                <a:xfrm>
                  <a:off x="6188040" y="116784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9" name="Group 991"/>
              <p:cNvGrpSpPr/>
              <p:nvPr/>
            </p:nvGrpSpPr>
            <p:grpSpPr>
              <a:xfrm>
                <a:off x="1224360" y="1463400"/>
                <a:ext cx="1806480" cy="469080"/>
                <a:chOff x="1224360" y="1463400"/>
                <a:chExt cx="1806480" cy="469080"/>
              </a:xfrm>
            </p:grpSpPr>
            <p:sp>
              <p:nvSpPr>
                <p:cNvPr id="630" name="Rectangle 910"/>
                <p:cNvSpPr/>
                <p:nvPr/>
              </p:nvSpPr>
              <p:spPr>
                <a:xfrm>
                  <a:off x="1273680" y="1463400"/>
                  <a:ext cx="1707480" cy="469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Geselliges Beisam- mensein mit Freund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990"/>
                <p:cNvSpPr/>
                <p:nvPr/>
              </p:nvSpPr>
              <p:spPr>
                <a:xfrm>
                  <a:off x="1224360" y="1463400"/>
                  <a:ext cx="1806480" cy="4690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Group 993"/>
              <p:cNvGrpSpPr/>
              <p:nvPr/>
            </p:nvGrpSpPr>
            <p:grpSpPr>
              <a:xfrm>
                <a:off x="3031200" y="1463400"/>
                <a:ext cx="1501560" cy="469080"/>
                <a:chOff x="3031200" y="1463400"/>
                <a:chExt cx="1501560" cy="469080"/>
              </a:xfrm>
            </p:grpSpPr>
            <p:sp>
              <p:nvSpPr>
                <p:cNvPr id="633" name="Rectangle 911"/>
                <p:cNvSpPr/>
                <p:nvPr/>
              </p:nvSpPr>
              <p:spPr>
                <a:xfrm>
                  <a:off x="3080520" y="1463400"/>
                  <a:ext cx="1402920" cy="469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4.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Rectangle 992"/>
                <p:cNvSpPr/>
                <p:nvPr/>
              </p:nvSpPr>
              <p:spPr>
                <a:xfrm>
                  <a:off x="3031200" y="1463400"/>
                  <a:ext cx="1501560" cy="4690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5" name="Group 995"/>
              <p:cNvGrpSpPr/>
              <p:nvPr/>
            </p:nvGrpSpPr>
            <p:grpSpPr>
              <a:xfrm>
                <a:off x="4533120" y="1463400"/>
                <a:ext cx="1654200" cy="469080"/>
                <a:chOff x="4533120" y="1463400"/>
                <a:chExt cx="1654200" cy="469080"/>
              </a:xfrm>
            </p:grpSpPr>
            <p:sp>
              <p:nvSpPr>
                <p:cNvPr id="636" name="Rectangle 912"/>
                <p:cNvSpPr/>
                <p:nvPr/>
              </p:nvSpPr>
              <p:spPr>
                <a:xfrm>
                  <a:off x="4582800" y="1463400"/>
                  <a:ext cx="1555200" cy="469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994"/>
                <p:cNvSpPr/>
                <p:nvPr/>
              </p:nvSpPr>
              <p:spPr>
                <a:xfrm>
                  <a:off x="4533120" y="1463400"/>
                  <a:ext cx="1654200" cy="4690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Group 997"/>
              <p:cNvGrpSpPr/>
              <p:nvPr/>
            </p:nvGrpSpPr>
            <p:grpSpPr>
              <a:xfrm>
                <a:off x="6188040" y="1463400"/>
                <a:ext cx="1654200" cy="469080"/>
                <a:chOff x="6188040" y="1463400"/>
                <a:chExt cx="1654200" cy="469080"/>
              </a:xfrm>
            </p:grpSpPr>
            <p:sp>
              <p:nvSpPr>
                <p:cNvPr id="639" name="Rectangle 913"/>
                <p:cNvSpPr/>
                <p:nvPr/>
              </p:nvSpPr>
              <p:spPr>
                <a:xfrm>
                  <a:off x="6237720" y="1463400"/>
                  <a:ext cx="1554840" cy="469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4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Rectangle 996"/>
                <p:cNvSpPr/>
                <p:nvPr/>
              </p:nvSpPr>
              <p:spPr>
                <a:xfrm>
                  <a:off x="6188040" y="1463400"/>
                  <a:ext cx="1654200" cy="4690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1" name="Group 999"/>
              <p:cNvGrpSpPr/>
              <p:nvPr/>
            </p:nvGrpSpPr>
            <p:grpSpPr>
              <a:xfrm>
                <a:off x="1224360" y="1932480"/>
                <a:ext cx="1806480" cy="295560"/>
                <a:chOff x="1224360" y="1932480"/>
                <a:chExt cx="1806480" cy="295560"/>
              </a:xfrm>
            </p:grpSpPr>
            <p:sp>
              <p:nvSpPr>
                <p:cNvPr id="642" name="Rectangle 914"/>
                <p:cNvSpPr/>
                <p:nvPr/>
              </p:nvSpPr>
              <p:spPr>
                <a:xfrm>
                  <a:off x="1273680" y="1932480"/>
                  <a:ext cx="170748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Abendes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Rectangle 998"/>
                <p:cNvSpPr/>
                <p:nvPr/>
              </p:nvSpPr>
              <p:spPr>
                <a:xfrm>
                  <a:off x="1224360" y="1932480"/>
                  <a:ext cx="180648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Group 1001"/>
              <p:cNvGrpSpPr/>
              <p:nvPr/>
            </p:nvGrpSpPr>
            <p:grpSpPr>
              <a:xfrm>
                <a:off x="3031200" y="1932480"/>
                <a:ext cx="1501560" cy="295560"/>
                <a:chOff x="3031200" y="1932480"/>
                <a:chExt cx="1501560" cy="295560"/>
              </a:xfrm>
            </p:grpSpPr>
            <p:sp>
              <p:nvSpPr>
                <p:cNvPr id="645" name="Rectangle 915"/>
                <p:cNvSpPr/>
                <p:nvPr/>
              </p:nvSpPr>
              <p:spPr>
                <a:xfrm>
                  <a:off x="3080520" y="1932480"/>
                  <a:ext cx="140292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4.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Rectangle 1000"/>
                <p:cNvSpPr/>
                <p:nvPr/>
              </p:nvSpPr>
              <p:spPr>
                <a:xfrm>
                  <a:off x="3031200" y="1932480"/>
                  <a:ext cx="150156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7" name="Group 1003"/>
              <p:cNvGrpSpPr/>
              <p:nvPr/>
            </p:nvGrpSpPr>
            <p:grpSpPr>
              <a:xfrm>
                <a:off x="4533120" y="1932480"/>
                <a:ext cx="1654200" cy="295560"/>
                <a:chOff x="4533120" y="1932480"/>
                <a:chExt cx="1654200" cy="295560"/>
              </a:xfrm>
            </p:grpSpPr>
            <p:sp>
              <p:nvSpPr>
                <p:cNvPr id="648" name="Rectangle 916"/>
                <p:cNvSpPr/>
                <p:nvPr/>
              </p:nvSpPr>
              <p:spPr>
                <a:xfrm>
                  <a:off x="4582800" y="1932480"/>
                  <a:ext cx="155520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0.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1002"/>
                <p:cNvSpPr/>
                <p:nvPr/>
              </p:nvSpPr>
              <p:spPr>
                <a:xfrm>
                  <a:off x="4533120" y="193248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0" name="Group 1005"/>
              <p:cNvGrpSpPr/>
              <p:nvPr/>
            </p:nvGrpSpPr>
            <p:grpSpPr>
              <a:xfrm>
                <a:off x="6188040" y="1932480"/>
                <a:ext cx="1654200" cy="295560"/>
                <a:chOff x="6188040" y="1932480"/>
                <a:chExt cx="1654200" cy="295560"/>
              </a:xfrm>
            </p:grpSpPr>
            <p:sp>
              <p:nvSpPr>
                <p:cNvPr id="651" name="Rectangle 917"/>
                <p:cNvSpPr/>
                <p:nvPr/>
              </p:nvSpPr>
              <p:spPr>
                <a:xfrm>
                  <a:off x="6237720" y="1932480"/>
                  <a:ext cx="155484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6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Rectangle 1004"/>
                <p:cNvSpPr/>
                <p:nvPr/>
              </p:nvSpPr>
              <p:spPr>
                <a:xfrm>
                  <a:off x="6188040" y="193248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3" name="Group 1007"/>
              <p:cNvGrpSpPr/>
              <p:nvPr/>
            </p:nvGrpSpPr>
            <p:grpSpPr>
              <a:xfrm>
                <a:off x="1224360" y="2228040"/>
                <a:ext cx="1806480" cy="295560"/>
                <a:chOff x="1224360" y="2228040"/>
                <a:chExt cx="1806480" cy="295560"/>
              </a:xfrm>
            </p:grpSpPr>
            <p:sp>
              <p:nvSpPr>
                <p:cNvPr id="654" name="Rectangle 918"/>
                <p:cNvSpPr/>
                <p:nvPr/>
              </p:nvSpPr>
              <p:spPr>
                <a:xfrm>
                  <a:off x="1273680" y="2228040"/>
                  <a:ext cx="170748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Entspann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Rectangle 1006"/>
                <p:cNvSpPr/>
                <p:nvPr/>
              </p:nvSpPr>
              <p:spPr>
                <a:xfrm>
                  <a:off x="1224360" y="2228040"/>
                  <a:ext cx="180648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6" name="Group 1009"/>
              <p:cNvGrpSpPr/>
              <p:nvPr/>
            </p:nvGrpSpPr>
            <p:grpSpPr>
              <a:xfrm>
                <a:off x="3031200" y="2228040"/>
                <a:ext cx="1501560" cy="295560"/>
                <a:chOff x="3031200" y="2228040"/>
                <a:chExt cx="1501560" cy="295560"/>
              </a:xfrm>
            </p:grpSpPr>
            <p:sp>
              <p:nvSpPr>
                <p:cNvPr id="657" name="Rectangle 919"/>
                <p:cNvSpPr/>
                <p:nvPr/>
              </p:nvSpPr>
              <p:spPr>
                <a:xfrm>
                  <a:off x="3080520" y="2228040"/>
                  <a:ext cx="140292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3.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1008"/>
                <p:cNvSpPr/>
                <p:nvPr/>
              </p:nvSpPr>
              <p:spPr>
                <a:xfrm>
                  <a:off x="3031200" y="2228040"/>
                  <a:ext cx="150156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Group 1011"/>
              <p:cNvGrpSpPr/>
              <p:nvPr/>
            </p:nvGrpSpPr>
            <p:grpSpPr>
              <a:xfrm>
                <a:off x="4533120" y="2228040"/>
                <a:ext cx="1654200" cy="295560"/>
                <a:chOff x="4533120" y="2228040"/>
                <a:chExt cx="1654200" cy="295560"/>
              </a:xfrm>
            </p:grpSpPr>
            <p:sp>
              <p:nvSpPr>
                <p:cNvPr id="660" name="Rectangle 920"/>
                <p:cNvSpPr/>
                <p:nvPr/>
              </p:nvSpPr>
              <p:spPr>
                <a:xfrm>
                  <a:off x="4582800" y="2228040"/>
                  <a:ext cx="155520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2.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Rectangle 1010"/>
                <p:cNvSpPr/>
                <p:nvPr/>
              </p:nvSpPr>
              <p:spPr>
                <a:xfrm>
                  <a:off x="4533120" y="222804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Group 1013"/>
              <p:cNvGrpSpPr/>
              <p:nvPr/>
            </p:nvGrpSpPr>
            <p:grpSpPr>
              <a:xfrm>
                <a:off x="6188040" y="2228040"/>
                <a:ext cx="1654200" cy="295560"/>
                <a:chOff x="6188040" y="2228040"/>
                <a:chExt cx="1654200" cy="295560"/>
              </a:xfrm>
            </p:grpSpPr>
            <p:sp>
              <p:nvSpPr>
                <p:cNvPr id="663" name="Rectangle 921"/>
                <p:cNvSpPr/>
                <p:nvPr/>
              </p:nvSpPr>
              <p:spPr>
                <a:xfrm>
                  <a:off x="6237720" y="2228040"/>
                  <a:ext cx="155484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7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Rectangle 1012"/>
                <p:cNvSpPr/>
                <p:nvPr/>
              </p:nvSpPr>
              <p:spPr>
                <a:xfrm>
                  <a:off x="6188040" y="222804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Group 1015"/>
              <p:cNvGrpSpPr/>
              <p:nvPr/>
            </p:nvGrpSpPr>
            <p:grpSpPr>
              <a:xfrm>
                <a:off x="1224360" y="2523600"/>
                <a:ext cx="1806480" cy="295560"/>
                <a:chOff x="1224360" y="2523600"/>
                <a:chExt cx="1806480" cy="295560"/>
              </a:xfrm>
            </p:grpSpPr>
            <p:sp>
              <p:nvSpPr>
                <p:cNvPr id="666" name="Rectangle 922"/>
                <p:cNvSpPr/>
                <p:nvPr/>
              </p:nvSpPr>
              <p:spPr>
                <a:xfrm>
                  <a:off x="1273680" y="2523600"/>
                  <a:ext cx="170748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Mittages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Rectangle 1014"/>
                <p:cNvSpPr/>
                <p:nvPr/>
              </p:nvSpPr>
              <p:spPr>
                <a:xfrm>
                  <a:off x="1224360" y="2523600"/>
                  <a:ext cx="180648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8" name="Group 1017"/>
              <p:cNvGrpSpPr/>
              <p:nvPr/>
            </p:nvGrpSpPr>
            <p:grpSpPr>
              <a:xfrm>
                <a:off x="3031200" y="2523600"/>
                <a:ext cx="1501560" cy="295560"/>
                <a:chOff x="3031200" y="2523600"/>
                <a:chExt cx="1501560" cy="295560"/>
              </a:xfrm>
            </p:grpSpPr>
            <p:sp>
              <p:nvSpPr>
                <p:cNvPr id="669" name="Rectangle 923"/>
                <p:cNvSpPr/>
                <p:nvPr/>
              </p:nvSpPr>
              <p:spPr>
                <a:xfrm>
                  <a:off x="3080520" y="2523600"/>
                  <a:ext cx="140292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3.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1016"/>
                <p:cNvSpPr/>
                <p:nvPr/>
              </p:nvSpPr>
              <p:spPr>
                <a:xfrm>
                  <a:off x="3031200" y="2523600"/>
                  <a:ext cx="150156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1" name="Group 1019"/>
              <p:cNvGrpSpPr/>
              <p:nvPr/>
            </p:nvGrpSpPr>
            <p:grpSpPr>
              <a:xfrm>
                <a:off x="4533120" y="2523600"/>
                <a:ext cx="1654200" cy="295560"/>
                <a:chOff x="4533120" y="2523600"/>
                <a:chExt cx="1654200" cy="295560"/>
              </a:xfrm>
            </p:grpSpPr>
            <p:sp>
              <p:nvSpPr>
                <p:cNvPr id="672" name="Rectangle 924"/>
                <p:cNvSpPr/>
                <p:nvPr/>
              </p:nvSpPr>
              <p:spPr>
                <a:xfrm>
                  <a:off x="4582800" y="2523600"/>
                  <a:ext cx="155520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0.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Rectangle 1018"/>
                <p:cNvSpPr/>
                <p:nvPr/>
              </p:nvSpPr>
              <p:spPr>
                <a:xfrm>
                  <a:off x="4533120" y="252360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Group 1021"/>
              <p:cNvGrpSpPr/>
              <p:nvPr/>
            </p:nvGrpSpPr>
            <p:grpSpPr>
              <a:xfrm>
                <a:off x="6188040" y="2523600"/>
                <a:ext cx="1654200" cy="295560"/>
                <a:chOff x="6188040" y="2523600"/>
                <a:chExt cx="1654200" cy="295560"/>
              </a:xfrm>
            </p:grpSpPr>
            <p:sp>
              <p:nvSpPr>
                <p:cNvPr id="675" name="Rectangle 925"/>
                <p:cNvSpPr/>
                <p:nvPr/>
              </p:nvSpPr>
              <p:spPr>
                <a:xfrm>
                  <a:off x="6237720" y="2523600"/>
                  <a:ext cx="155484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5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1020"/>
                <p:cNvSpPr/>
                <p:nvPr/>
              </p:nvSpPr>
              <p:spPr>
                <a:xfrm>
                  <a:off x="6188040" y="252360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7" name="Group 1023"/>
              <p:cNvGrpSpPr/>
              <p:nvPr/>
            </p:nvGrpSpPr>
            <p:grpSpPr>
              <a:xfrm>
                <a:off x="1224360" y="2819160"/>
                <a:ext cx="1806480" cy="295560"/>
                <a:chOff x="1224360" y="2819160"/>
                <a:chExt cx="1806480" cy="295560"/>
              </a:xfrm>
            </p:grpSpPr>
            <p:sp>
              <p:nvSpPr>
                <p:cNvPr id="678" name="Rectangle 926"/>
                <p:cNvSpPr/>
                <p:nvPr/>
              </p:nvSpPr>
              <p:spPr>
                <a:xfrm>
                  <a:off x="1273680" y="2819160"/>
                  <a:ext cx="170748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Fitn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1022"/>
                <p:cNvSpPr/>
                <p:nvPr/>
              </p:nvSpPr>
              <p:spPr>
                <a:xfrm>
                  <a:off x="1224360" y="2819160"/>
                  <a:ext cx="180648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0" name="Group 1"/>
              <p:cNvGrpSpPr/>
              <p:nvPr/>
            </p:nvGrpSpPr>
            <p:grpSpPr>
              <a:xfrm>
                <a:off x="3031200" y="2819160"/>
                <a:ext cx="1501560" cy="295560"/>
                <a:chOff x="3031200" y="2819160"/>
                <a:chExt cx="1501560" cy="295560"/>
              </a:xfrm>
            </p:grpSpPr>
            <p:sp>
              <p:nvSpPr>
                <p:cNvPr id="681" name="Rectangle 927"/>
                <p:cNvSpPr/>
                <p:nvPr/>
              </p:nvSpPr>
              <p:spPr>
                <a:xfrm>
                  <a:off x="3080520" y="2819160"/>
                  <a:ext cx="140292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3.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0"/>
                <p:cNvSpPr/>
                <p:nvPr/>
              </p:nvSpPr>
              <p:spPr>
                <a:xfrm>
                  <a:off x="3031200" y="2819160"/>
                  <a:ext cx="150156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3" name="Group 3"/>
              <p:cNvGrpSpPr/>
              <p:nvPr/>
            </p:nvGrpSpPr>
            <p:grpSpPr>
              <a:xfrm>
                <a:off x="4533120" y="2819160"/>
                <a:ext cx="1654200" cy="295560"/>
                <a:chOff x="4533120" y="2819160"/>
                <a:chExt cx="1654200" cy="295560"/>
              </a:xfrm>
            </p:grpSpPr>
            <p:sp>
              <p:nvSpPr>
                <p:cNvPr id="684" name="Rectangle 928"/>
                <p:cNvSpPr/>
                <p:nvPr/>
              </p:nvSpPr>
              <p:spPr>
                <a:xfrm>
                  <a:off x="4582800" y="2819160"/>
                  <a:ext cx="155520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0.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Rectangle 2"/>
                <p:cNvSpPr/>
                <p:nvPr/>
              </p:nvSpPr>
              <p:spPr>
                <a:xfrm>
                  <a:off x="4533120" y="281916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6" name="Group 5"/>
              <p:cNvGrpSpPr/>
              <p:nvPr/>
            </p:nvGrpSpPr>
            <p:grpSpPr>
              <a:xfrm>
                <a:off x="6188040" y="2819160"/>
                <a:ext cx="1654200" cy="295560"/>
                <a:chOff x="6188040" y="2819160"/>
                <a:chExt cx="1654200" cy="295560"/>
              </a:xfrm>
            </p:grpSpPr>
            <p:sp>
              <p:nvSpPr>
                <p:cNvPr id="687" name="Rectangle 929"/>
                <p:cNvSpPr/>
                <p:nvPr/>
              </p:nvSpPr>
              <p:spPr>
                <a:xfrm>
                  <a:off x="6237720" y="2819160"/>
                  <a:ext cx="155484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1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Rectangle 4"/>
                <p:cNvSpPr/>
                <p:nvPr/>
              </p:nvSpPr>
              <p:spPr>
                <a:xfrm>
                  <a:off x="6188040" y="281916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9" name="Group 7"/>
              <p:cNvGrpSpPr/>
              <p:nvPr/>
            </p:nvGrpSpPr>
            <p:grpSpPr>
              <a:xfrm>
                <a:off x="1224360" y="3114720"/>
                <a:ext cx="1806480" cy="295560"/>
                <a:chOff x="1224360" y="3114720"/>
                <a:chExt cx="1806480" cy="295560"/>
              </a:xfrm>
            </p:grpSpPr>
            <p:sp>
              <p:nvSpPr>
                <p:cNvPr id="690" name="Rectangle 930"/>
                <p:cNvSpPr/>
                <p:nvPr/>
              </p:nvSpPr>
              <p:spPr>
                <a:xfrm>
                  <a:off x="1273680" y="3114720"/>
                  <a:ext cx="170748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Kirche/Bet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Rectangle 6"/>
                <p:cNvSpPr/>
                <p:nvPr/>
              </p:nvSpPr>
              <p:spPr>
                <a:xfrm>
                  <a:off x="1224360" y="3114720"/>
                  <a:ext cx="180648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Group 9"/>
              <p:cNvGrpSpPr/>
              <p:nvPr/>
            </p:nvGrpSpPr>
            <p:grpSpPr>
              <a:xfrm>
                <a:off x="3031200" y="3114720"/>
                <a:ext cx="1501560" cy="295560"/>
                <a:chOff x="3031200" y="3114720"/>
                <a:chExt cx="1501560" cy="295560"/>
              </a:xfrm>
            </p:grpSpPr>
            <p:sp>
              <p:nvSpPr>
                <p:cNvPr id="693" name="Rectangle 931"/>
                <p:cNvSpPr/>
                <p:nvPr/>
              </p:nvSpPr>
              <p:spPr>
                <a:xfrm>
                  <a:off x="3080520" y="3114720"/>
                  <a:ext cx="140292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3.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8"/>
                <p:cNvSpPr/>
                <p:nvPr/>
              </p:nvSpPr>
              <p:spPr>
                <a:xfrm>
                  <a:off x="3031200" y="3114720"/>
                  <a:ext cx="150156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5" name="Group 11"/>
              <p:cNvGrpSpPr/>
              <p:nvPr/>
            </p:nvGrpSpPr>
            <p:grpSpPr>
              <a:xfrm>
                <a:off x="4533120" y="3114720"/>
                <a:ext cx="1654200" cy="295560"/>
                <a:chOff x="4533120" y="3114720"/>
                <a:chExt cx="1654200" cy="295560"/>
              </a:xfrm>
            </p:grpSpPr>
            <p:sp>
              <p:nvSpPr>
                <p:cNvPr id="696" name="Rectangle 932"/>
                <p:cNvSpPr/>
                <p:nvPr/>
              </p:nvSpPr>
              <p:spPr>
                <a:xfrm>
                  <a:off x="4582800" y="3114720"/>
                  <a:ext cx="155520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10"/>
                <p:cNvSpPr/>
                <p:nvPr/>
              </p:nvSpPr>
              <p:spPr>
                <a:xfrm>
                  <a:off x="4533120" y="311472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8" name="Group 13"/>
              <p:cNvGrpSpPr/>
              <p:nvPr/>
            </p:nvGrpSpPr>
            <p:grpSpPr>
              <a:xfrm>
                <a:off x="6188040" y="3114720"/>
                <a:ext cx="1654200" cy="295560"/>
                <a:chOff x="6188040" y="3114720"/>
                <a:chExt cx="1654200" cy="295560"/>
              </a:xfrm>
            </p:grpSpPr>
            <p:sp>
              <p:nvSpPr>
                <p:cNvPr id="699" name="Rectangle 933"/>
                <p:cNvSpPr/>
                <p:nvPr/>
              </p:nvSpPr>
              <p:spPr>
                <a:xfrm>
                  <a:off x="6237720" y="3114720"/>
                  <a:ext cx="155484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2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Rectangle 12"/>
                <p:cNvSpPr/>
                <p:nvPr/>
              </p:nvSpPr>
              <p:spPr>
                <a:xfrm>
                  <a:off x="6188040" y="311472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1" name="Group 15"/>
              <p:cNvGrpSpPr/>
              <p:nvPr/>
            </p:nvGrpSpPr>
            <p:grpSpPr>
              <a:xfrm>
                <a:off x="1224360" y="3410640"/>
                <a:ext cx="1806480" cy="295200"/>
                <a:chOff x="1224360" y="3410640"/>
                <a:chExt cx="1806480" cy="295200"/>
              </a:xfrm>
            </p:grpSpPr>
            <p:sp>
              <p:nvSpPr>
                <p:cNvPr id="702" name="Rectangle 934"/>
                <p:cNvSpPr/>
                <p:nvPr/>
              </p:nvSpPr>
              <p:spPr>
                <a:xfrm>
                  <a:off x="1273680" y="3410640"/>
                  <a:ext cx="1707480" cy="295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Fernse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14"/>
                <p:cNvSpPr/>
                <p:nvPr/>
              </p:nvSpPr>
              <p:spPr>
                <a:xfrm>
                  <a:off x="1224360" y="3410640"/>
                  <a:ext cx="1806480" cy="2952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4" name="Group 17"/>
              <p:cNvGrpSpPr/>
              <p:nvPr/>
            </p:nvGrpSpPr>
            <p:grpSpPr>
              <a:xfrm>
                <a:off x="3031200" y="3410640"/>
                <a:ext cx="1501560" cy="295200"/>
                <a:chOff x="3031200" y="3410640"/>
                <a:chExt cx="1501560" cy="295200"/>
              </a:xfrm>
            </p:grpSpPr>
            <p:sp>
              <p:nvSpPr>
                <p:cNvPr id="705" name="Rectangle 935"/>
                <p:cNvSpPr/>
                <p:nvPr/>
              </p:nvSpPr>
              <p:spPr>
                <a:xfrm>
                  <a:off x="3080520" y="3410640"/>
                  <a:ext cx="1402920" cy="295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3.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Rectangle 16"/>
                <p:cNvSpPr/>
                <p:nvPr/>
              </p:nvSpPr>
              <p:spPr>
                <a:xfrm>
                  <a:off x="3031200" y="3410640"/>
                  <a:ext cx="1501560" cy="2952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Group 19"/>
              <p:cNvGrpSpPr/>
              <p:nvPr/>
            </p:nvGrpSpPr>
            <p:grpSpPr>
              <a:xfrm>
                <a:off x="4533120" y="3410640"/>
                <a:ext cx="1654200" cy="295200"/>
                <a:chOff x="4533120" y="3410640"/>
                <a:chExt cx="1654200" cy="295200"/>
              </a:xfrm>
            </p:grpSpPr>
            <p:sp>
              <p:nvSpPr>
                <p:cNvPr id="708" name="Rectangle 936"/>
                <p:cNvSpPr/>
                <p:nvPr/>
              </p:nvSpPr>
              <p:spPr>
                <a:xfrm>
                  <a:off x="4582800" y="3410640"/>
                  <a:ext cx="1555200" cy="295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2.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Rectangle 18"/>
                <p:cNvSpPr/>
                <p:nvPr/>
              </p:nvSpPr>
              <p:spPr>
                <a:xfrm>
                  <a:off x="4533120" y="3410640"/>
                  <a:ext cx="1654200" cy="2952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0" name="Group 21"/>
              <p:cNvGrpSpPr/>
              <p:nvPr/>
            </p:nvGrpSpPr>
            <p:grpSpPr>
              <a:xfrm>
                <a:off x="6188040" y="3410640"/>
                <a:ext cx="1654200" cy="295200"/>
                <a:chOff x="6188040" y="3410640"/>
                <a:chExt cx="1654200" cy="295200"/>
              </a:xfrm>
            </p:grpSpPr>
            <p:sp>
              <p:nvSpPr>
                <p:cNvPr id="711" name="Rectangle 937"/>
                <p:cNvSpPr/>
                <p:nvPr/>
              </p:nvSpPr>
              <p:spPr>
                <a:xfrm>
                  <a:off x="6237720" y="3410640"/>
                  <a:ext cx="1554840" cy="295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7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Rectangle 20"/>
                <p:cNvSpPr/>
                <p:nvPr/>
              </p:nvSpPr>
              <p:spPr>
                <a:xfrm>
                  <a:off x="6188040" y="3410640"/>
                  <a:ext cx="1654200" cy="2952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3" name="Group 23"/>
              <p:cNvGrpSpPr/>
              <p:nvPr/>
            </p:nvGrpSpPr>
            <p:grpSpPr>
              <a:xfrm>
                <a:off x="1224360" y="3705840"/>
                <a:ext cx="1806480" cy="295560"/>
                <a:chOff x="1224360" y="3705840"/>
                <a:chExt cx="1806480" cy="295560"/>
              </a:xfrm>
            </p:grpSpPr>
            <p:sp>
              <p:nvSpPr>
                <p:cNvPr id="714" name="Rectangle 938"/>
                <p:cNvSpPr/>
                <p:nvPr/>
              </p:nvSpPr>
              <p:spPr>
                <a:xfrm>
                  <a:off x="1273680" y="3705840"/>
                  <a:ext cx="170748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Telefonier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Rectangle 22"/>
                <p:cNvSpPr/>
                <p:nvPr/>
              </p:nvSpPr>
              <p:spPr>
                <a:xfrm>
                  <a:off x="1224360" y="3705840"/>
                  <a:ext cx="180648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6" name="Group 25"/>
              <p:cNvGrpSpPr/>
              <p:nvPr/>
            </p:nvGrpSpPr>
            <p:grpSpPr>
              <a:xfrm>
                <a:off x="3031200" y="3705840"/>
                <a:ext cx="1501560" cy="295560"/>
                <a:chOff x="3031200" y="3705840"/>
                <a:chExt cx="1501560" cy="295560"/>
              </a:xfrm>
            </p:grpSpPr>
            <p:sp>
              <p:nvSpPr>
                <p:cNvPr id="717" name="Rectangle 939"/>
                <p:cNvSpPr/>
                <p:nvPr/>
              </p:nvSpPr>
              <p:spPr>
                <a:xfrm>
                  <a:off x="3080520" y="3705840"/>
                  <a:ext cx="140292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3.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Rectangle 24"/>
                <p:cNvSpPr/>
                <p:nvPr/>
              </p:nvSpPr>
              <p:spPr>
                <a:xfrm>
                  <a:off x="3031200" y="3705840"/>
                  <a:ext cx="150156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9" name="Group 27"/>
              <p:cNvGrpSpPr/>
              <p:nvPr/>
            </p:nvGrpSpPr>
            <p:grpSpPr>
              <a:xfrm>
                <a:off x="4533120" y="3705840"/>
                <a:ext cx="1654200" cy="295560"/>
                <a:chOff x="4533120" y="3705840"/>
                <a:chExt cx="1654200" cy="295560"/>
              </a:xfrm>
            </p:grpSpPr>
            <p:sp>
              <p:nvSpPr>
                <p:cNvPr id="720" name="Rectangle 940"/>
                <p:cNvSpPr/>
                <p:nvPr/>
              </p:nvSpPr>
              <p:spPr>
                <a:xfrm>
                  <a:off x="4582800" y="3705840"/>
                  <a:ext cx="155520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0.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Rectangle 26"/>
                <p:cNvSpPr/>
                <p:nvPr/>
              </p:nvSpPr>
              <p:spPr>
                <a:xfrm>
                  <a:off x="4533120" y="370584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2" name="Group 29"/>
              <p:cNvGrpSpPr/>
              <p:nvPr/>
            </p:nvGrpSpPr>
            <p:grpSpPr>
              <a:xfrm>
                <a:off x="6188040" y="3705840"/>
                <a:ext cx="1654200" cy="295560"/>
                <a:chOff x="6188040" y="3705840"/>
                <a:chExt cx="1654200" cy="295560"/>
              </a:xfrm>
            </p:grpSpPr>
            <p:sp>
              <p:nvSpPr>
                <p:cNvPr id="723" name="Rectangle 941"/>
                <p:cNvSpPr/>
                <p:nvPr/>
              </p:nvSpPr>
              <p:spPr>
                <a:xfrm>
                  <a:off x="6237720" y="3705840"/>
                  <a:ext cx="155484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4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Rectangle 28"/>
                <p:cNvSpPr/>
                <p:nvPr/>
              </p:nvSpPr>
              <p:spPr>
                <a:xfrm>
                  <a:off x="6188040" y="370584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5" name="Group 31"/>
              <p:cNvGrpSpPr/>
              <p:nvPr/>
            </p:nvGrpSpPr>
            <p:grpSpPr>
              <a:xfrm>
                <a:off x="1224360" y="4001400"/>
                <a:ext cx="1806480" cy="295560"/>
                <a:chOff x="1224360" y="4001400"/>
                <a:chExt cx="1806480" cy="295560"/>
              </a:xfrm>
            </p:grpSpPr>
            <p:sp>
              <p:nvSpPr>
                <p:cNvPr id="726" name="Rectangle 942"/>
                <p:cNvSpPr/>
                <p:nvPr/>
              </p:nvSpPr>
              <p:spPr>
                <a:xfrm>
                  <a:off x="1273680" y="4001400"/>
                  <a:ext cx="170748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Sich ausru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Rectangle 30"/>
                <p:cNvSpPr/>
                <p:nvPr/>
              </p:nvSpPr>
              <p:spPr>
                <a:xfrm>
                  <a:off x="1224360" y="4001400"/>
                  <a:ext cx="180648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8" name="Group 33"/>
              <p:cNvGrpSpPr/>
              <p:nvPr/>
            </p:nvGrpSpPr>
            <p:grpSpPr>
              <a:xfrm>
                <a:off x="3031200" y="4001400"/>
                <a:ext cx="1501560" cy="295560"/>
                <a:chOff x="3031200" y="4001400"/>
                <a:chExt cx="1501560" cy="295560"/>
              </a:xfrm>
            </p:grpSpPr>
            <p:sp>
              <p:nvSpPr>
                <p:cNvPr id="729" name="Rectangle 943"/>
                <p:cNvSpPr/>
                <p:nvPr/>
              </p:nvSpPr>
              <p:spPr>
                <a:xfrm>
                  <a:off x="3080520" y="4001400"/>
                  <a:ext cx="140292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3.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Rectangle 32"/>
                <p:cNvSpPr/>
                <p:nvPr/>
              </p:nvSpPr>
              <p:spPr>
                <a:xfrm>
                  <a:off x="3031200" y="4001400"/>
                  <a:ext cx="150156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1" name="Group 35"/>
              <p:cNvGrpSpPr/>
              <p:nvPr/>
            </p:nvGrpSpPr>
            <p:grpSpPr>
              <a:xfrm>
                <a:off x="4533120" y="4001400"/>
                <a:ext cx="1654200" cy="295560"/>
                <a:chOff x="4533120" y="4001400"/>
                <a:chExt cx="1654200" cy="295560"/>
              </a:xfrm>
            </p:grpSpPr>
            <p:sp>
              <p:nvSpPr>
                <p:cNvPr id="732" name="Rectangle 944"/>
                <p:cNvSpPr/>
                <p:nvPr/>
              </p:nvSpPr>
              <p:spPr>
                <a:xfrm>
                  <a:off x="4582800" y="4001400"/>
                  <a:ext cx="155520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0.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Rectangle 34"/>
                <p:cNvSpPr/>
                <p:nvPr/>
              </p:nvSpPr>
              <p:spPr>
                <a:xfrm>
                  <a:off x="4533120" y="400140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4" name="Group 37"/>
              <p:cNvGrpSpPr/>
              <p:nvPr/>
            </p:nvGrpSpPr>
            <p:grpSpPr>
              <a:xfrm>
                <a:off x="6188040" y="4001400"/>
                <a:ext cx="1654200" cy="295560"/>
                <a:chOff x="6188040" y="4001400"/>
                <a:chExt cx="1654200" cy="295560"/>
              </a:xfrm>
            </p:grpSpPr>
            <p:sp>
              <p:nvSpPr>
                <p:cNvPr id="735" name="Rectangle 945"/>
                <p:cNvSpPr/>
                <p:nvPr/>
              </p:nvSpPr>
              <p:spPr>
                <a:xfrm>
                  <a:off x="6237720" y="4001400"/>
                  <a:ext cx="155484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4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Rectangle 36"/>
                <p:cNvSpPr/>
                <p:nvPr/>
              </p:nvSpPr>
              <p:spPr>
                <a:xfrm>
                  <a:off x="6188040" y="400140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7" name="Group 39"/>
              <p:cNvGrpSpPr/>
              <p:nvPr/>
            </p:nvGrpSpPr>
            <p:grpSpPr>
              <a:xfrm>
                <a:off x="1224360" y="4296960"/>
                <a:ext cx="1806480" cy="295560"/>
                <a:chOff x="1224360" y="4296960"/>
                <a:chExt cx="1806480" cy="295560"/>
              </a:xfrm>
            </p:grpSpPr>
            <p:sp>
              <p:nvSpPr>
                <p:cNvPr id="738" name="Rectangle 946"/>
                <p:cNvSpPr/>
                <p:nvPr/>
              </p:nvSpPr>
              <p:spPr>
                <a:xfrm>
                  <a:off x="1273680" y="4296960"/>
                  <a:ext cx="170748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Koc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Rectangle 38"/>
                <p:cNvSpPr/>
                <p:nvPr/>
              </p:nvSpPr>
              <p:spPr>
                <a:xfrm>
                  <a:off x="1224360" y="4296960"/>
                  <a:ext cx="180648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0" name="Group 41"/>
              <p:cNvGrpSpPr/>
              <p:nvPr/>
            </p:nvGrpSpPr>
            <p:grpSpPr>
              <a:xfrm>
                <a:off x="3031200" y="4296960"/>
                <a:ext cx="1501560" cy="295560"/>
                <a:chOff x="3031200" y="4296960"/>
                <a:chExt cx="1501560" cy="295560"/>
              </a:xfrm>
            </p:grpSpPr>
            <p:sp>
              <p:nvSpPr>
                <p:cNvPr id="741" name="Rectangle 947"/>
                <p:cNvSpPr/>
                <p:nvPr/>
              </p:nvSpPr>
              <p:spPr>
                <a:xfrm>
                  <a:off x="3080520" y="4296960"/>
                  <a:ext cx="140292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40"/>
                <p:cNvSpPr/>
                <p:nvPr/>
              </p:nvSpPr>
              <p:spPr>
                <a:xfrm>
                  <a:off x="3031200" y="4296960"/>
                  <a:ext cx="150156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3" name="Group 43"/>
              <p:cNvGrpSpPr/>
              <p:nvPr/>
            </p:nvGrpSpPr>
            <p:grpSpPr>
              <a:xfrm>
                <a:off x="4533120" y="4296960"/>
                <a:ext cx="1654200" cy="295560"/>
                <a:chOff x="4533120" y="4296960"/>
                <a:chExt cx="1654200" cy="295560"/>
              </a:xfrm>
            </p:grpSpPr>
            <p:sp>
              <p:nvSpPr>
                <p:cNvPr id="744" name="Rectangle 948"/>
                <p:cNvSpPr/>
                <p:nvPr/>
              </p:nvSpPr>
              <p:spPr>
                <a:xfrm>
                  <a:off x="4582800" y="4296960"/>
                  <a:ext cx="155520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Rectangle 42"/>
                <p:cNvSpPr/>
                <p:nvPr/>
              </p:nvSpPr>
              <p:spPr>
                <a:xfrm>
                  <a:off x="4533120" y="429696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6" name="Group 45"/>
              <p:cNvGrpSpPr/>
              <p:nvPr/>
            </p:nvGrpSpPr>
            <p:grpSpPr>
              <a:xfrm>
                <a:off x="6188040" y="4296960"/>
                <a:ext cx="1654200" cy="295560"/>
                <a:chOff x="6188040" y="4296960"/>
                <a:chExt cx="1654200" cy="295560"/>
              </a:xfrm>
            </p:grpSpPr>
            <p:sp>
              <p:nvSpPr>
                <p:cNvPr id="747" name="Rectangle 949"/>
                <p:cNvSpPr/>
                <p:nvPr/>
              </p:nvSpPr>
              <p:spPr>
                <a:xfrm>
                  <a:off x="6237720" y="4296960"/>
                  <a:ext cx="155484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6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Rectangle 44"/>
                <p:cNvSpPr/>
                <p:nvPr/>
              </p:nvSpPr>
              <p:spPr>
                <a:xfrm>
                  <a:off x="6188040" y="429696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9" name="Group 47"/>
              <p:cNvGrpSpPr/>
              <p:nvPr/>
            </p:nvGrpSpPr>
            <p:grpSpPr>
              <a:xfrm>
                <a:off x="1224360" y="4592520"/>
                <a:ext cx="1806480" cy="295560"/>
                <a:chOff x="1224360" y="4592520"/>
                <a:chExt cx="1806480" cy="295560"/>
              </a:xfrm>
            </p:grpSpPr>
            <p:sp>
              <p:nvSpPr>
                <p:cNvPr id="750" name="Rectangle 950"/>
                <p:cNvSpPr/>
                <p:nvPr/>
              </p:nvSpPr>
              <p:spPr>
                <a:xfrm>
                  <a:off x="1273680" y="4592520"/>
                  <a:ext cx="170748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Einkauf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Rectangle 46"/>
                <p:cNvSpPr/>
                <p:nvPr/>
              </p:nvSpPr>
              <p:spPr>
                <a:xfrm>
                  <a:off x="1224360" y="4592520"/>
                  <a:ext cx="180648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2" name="Group 49"/>
              <p:cNvGrpSpPr/>
              <p:nvPr/>
            </p:nvGrpSpPr>
            <p:grpSpPr>
              <a:xfrm>
                <a:off x="3031200" y="4592520"/>
                <a:ext cx="1501560" cy="295560"/>
                <a:chOff x="3031200" y="4592520"/>
                <a:chExt cx="1501560" cy="295560"/>
              </a:xfrm>
            </p:grpSpPr>
            <p:sp>
              <p:nvSpPr>
                <p:cNvPr id="753" name="Rectangle 951"/>
                <p:cNvSpPr/>
                <p:nvPr/>
              </p:nvSpPr>
              <p:spPr>
                <a:xfrm>
                  <a:off x="3080520" y="4592520"/>
                  <a:ext cx="140292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Rectangle 48"/>
                <p:cNvSpPr/>
                <p:nvPr/>
              </p:nvSpPr>
              <p:spPr>
                <a:xfrm>
                  <a:off x="3031200" y="4592520"/>
                  <a:ext cx="150156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5" name="Group 51"/>
              <p:cNvGrpSpPr/>
              <p:nvPr/>
            </p:nvGrpSpPr>
            <p:grpSpPr>
              <a:xfrm>
                <a:off x="4533120" y="4592520"/>
                <a:ext cx="1654200" cy="295560"/>
                <a:chOff x="4533120" y="4592520"/>
                <a:chExt cx="1654200" cy="295560"/>
              </a:xfrm>
            </p:grpSpPr>
            <p:sp>
              <p:nvSpPr>
                <p:cNvPr id="756" name="Rectangle 952"/>
                <p:cNvSpPr/>
                <p:nvPr/>
              </p:nvSpPr>
              <p:spPr>
                <a:xfrm>
                  <a:off x="4582800" y="4592520"/>
                  <a:ext cx="155520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0.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50"/>
                <p:cNvSpPr/>
                <p:nvPr/>
              </p:nvSpPr>
              <p:spPr>
                <a:xfrm>
                  <a:off x="4533120" y="459252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8" name="Group 53"/>
              <p:cNvGrpSpPr/>
              <p:nvPr/>
            </p:nvGrpSpPr>
            <p:grpSpPr>
              <a:xfrm>
                <a:off x="6188040" y="4592520"/>
                <a:ext cx="1654200" cy="295560"/>
                <a:chOff x="6188040" y="4592520"/>
                <a:chExt cx="1654200" cy="295560"/>
              </a:xfrm>
            </p:grpSpPr>
            <p:sp>
              <p:nvSpPr>
                <p:cNvPr id="759" name="Rectangle 953"/>
                <p:cNvSpPr/>
                <p:nvPr/>
              </p:nvSpPr>
              <p:spPr>
                <a:xfrm>
                  <a:off x="6237720" y="4592520"/>
                  <a:ext cx="155484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3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Rectangle 52"/>
                <p:cNvSpPr/>
                <p:nvPr/>
              </p:nvSpPr>
              <p:spPr>
                <a:xfrm>
                  <a:off x="6188040" y="459252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1" name="Group 55"/>
              <p:cNvGrpSpPr/>
              <p:nvPr/>
            </p:nvGrpSpPr>
            <p:grpSpPr>
              <a:xfrm>
                <a:off x="1224360" y="4888080"/>
                <a:ext cx="1806480" cy="382320"/>
                <a:chOff x="1224360" y="4888080"/>
                <a:chExt cx="1806480" cy="382320"/>
              </a:xfrm>
            </p:grpSpPr>
            <p:sp>
              <p:nvSpPr>
                <p:cNvPr id="762" name="Rectangle 954"/>
                <p:cNvSpPr/>
                <p:nvPr/>
              </p:nvSpPr>
              <p:spPr>
                <a:xfrm>
                  <a:off x="1273680" y="4888080"/>
                  <a:ext cx="1707480" cy="382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Computer/Intern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Rectangle 54"/>
                <p:cNvSpPr/>
                <p:nvPr/>
              </p:nvSpPr>
              <p:spPr>
                <a:xfrm>
                  <a:off x="1224360" y="4888080"/>
                  <a:ext cx="1806480" cy="3823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4" name="Group 57"/>
              <p:cNvGrpSpPr/>
              <p:nvPr/>
            </p:nvGrpSpPr>
            <p:grpSpPr>
              <a:xfrm>
                <a:off x="3031200" y="4888080"/>
                <a:ext cx="1501560" cy="382320"/>
                <a:chOff x="3031200" y="4888080"/>
                <a:chExt cx="1501560" cy="382320"/>
              </a:xfrm>
            </p:grpSpPr>
            <p:sp>
              <p:nvSpPr>
                <p:cNvPr id="765" name="Rectangle 955"/>
                <p:cNvSpPr/>
                <p:nvPr/>
              </p:nvSpPr>
              <p:spPr>
                <a:xfrm>
                  <a:off x="3080520" y="4888080"/>
                  <a:ext cx="1402920" cy="382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56"/>
                <p:cNvSpPr/>
                <p:nvPr/>
              </p:nvSpPr>
              <p:spPr>
                <a:xfrm>
                  <a:off x="3031200" y="4888080"/>
                  <a:ext cx="1501560" cy="3823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7" name="Group 59"/>
              <p:cNvGrpSpPr/>
              <p:nvPr/>
            </p:nvGrpSpPr>
            <p:grpSpPr>
              <a:xfrm>
                <a:off x="4533120" y="4888080"/>
                <a:ext cx="1654200" cy="382320"/>
                <a:chOff x="4533120" y="4888080"/>
                <a:chExt cx="1654200" cy="382320"/>
              </a:xfrm>
            </p:grpSpPr>
            <p:sp>
              <p:nvSpPr>
                <p:cNvPr id="768" name="Rectangle 956"/>
                <p:cNvSpPr/>
                <p:nvPr/>
              </p:nvSpPr>
              <p:spPr>
                <a:xfrm>
                  <a:off x="4582800" y="4888080"/>
                  <a:ext cx="1555200" cy="382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Rectangle 58"/>
                <p:cNvSpPr/>
                <p:nvPr/>
              </p:nvSpPr>
              <p:spPr>
                <a:xfrm>
                  <a:off x="4533120" y="4888080"/>
                  <a:ext cx="1654200" cy="3823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0" name="Group 61"/>
              <p:cNvGrpSpPr/>
              <p:nvPr/>
            </p:nvGrpSpPr>
            <p:grpSpPr>
              <a:xfrm>
                <a:off x="6188040" y="4888080"/>
                <a:ext cx="1654200" cy="382320"/>
                <a:chOff x="6188040" y="4888080"/>
                <a:chExt cx="1654200" cy="382320"/>
              </a:xfrm>
            </p:grpSpPr>
            <p:sp>
              <p:nvSpPr>
                <p:cNvPr id="771" name="Rectangle 957"/>
                <p:cNvSpPr/>
                <p:nvPr/>
              </p:nvSpPr>
              <p:spPr>
                <a:xfrm>
                  <a:off x="6237720" y="4888080"/>
                  <a:ext cx="1554840" cy="382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2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Rectangle 60"/>
                <p:cNvSpPr/>
                <p:nvPr/>
              </p:nvSpPr>
              <p:spPr>
                <a:xfrm>
                  <a:off x="6188040" y="4888080"/>
                  <a:ext cx="1654200" cy="3823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3" name="Group 63"/>
              <p:cNvGrpSpPr/>
              <p:nvPr/>
            </p:nvGrpSpPr>
            <p:grpSpPr>
              <a:xfrm>
                <a:off x="1224360" y="5270760"/>
                <a:ext cx="1806480" cy="295560"/>
                <a:chOff x="1224360" y="5270760"/>
                <a:chExt cx="1806480" cy="295560"/>
              </a:xfrm>
            </p:grpSpPr>
            <p:sp>
              <p:nvSpPr>
                <p:cNvPr id="774" name="Rectangle 958"/>
                <p:cNvSpPr/>
                <p:nvPr/>
              </p:nvSpPr>
              <p:spPr>
                <a:xfrm>
                  <a:off x="1273680" y="5270760"/>
                  <a:ext cx="170748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Hausarbe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Rectangle 62"/>
                <p:cNvSpPr/>
                <p:nvPr/>
              </p:nvSpPr>
              <p:spPr>
                <a:xfrm>
                  <a:off x="1224360" y="5270760"/>
                  <a:ext cx="180648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6" name="Group 65"/>
              <p:cNvGrpSpPr/>
              <p:nvPr/>
            </p:nvGrpSpPr>
            <p:grpSpPr>
              <a:xfrm>
                <a:off x="3031200" y="5270760"/>
                <a:ext cx="1501560" cy="295560"/>
                <a:chOff x="3031200" y="5270760"/>
                <a:chExt cx="1501560" cy="295560"/>
              </a:xfrm>
            </p:grpSpPr>
            <p:sp>
              <p:nvSpPr>
                <p:cNvPr id="777" name="Rectangle 959"/>
                <p:cNvSpPr/>
                <p:nvPr/>
              </p:nvSpPr>
              <p:spPr>
                <a:xfrm>
                  <a:off x="3080520" y="5270760"/>
                  <a:ext cx="140292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3.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Rectangle 64"/>
                <p:cNvSpPr/>
                <p:nvPr/>
              </p:nvSpPr>
              <p:spPr>
                <a:xfrm>
                  <a:off x="3031200" y="5270760"/>
                  <a:ext cx="150156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9" name="Group 67"/>
              <p:cNvGrpSpPr/>
              <p:nvPr/>
            </p:nvGrpSpPr>
            <p:grpSpPr>
              <a:xfrm>
                <a:off x="4533120" y="5270760"/>
                <a:ext cx="1654200" cy="295560"/>
                <a:chOff x="4533120" y="5270760"/>
                <a:chExt cx="1654200" cy="295560"/>
              </a:xfrm>
            </p:grpSpPr>
            <p:sp>
              <p:nvSpPr>
                <p:cNvPr id="780" name="Rectangle 960"/>
                <p:cNvSpPr/>
                <p:nvPr/>
              </p:nvSpPr>
              <p:spPr>
                <a:xfrm>
                  <a:off x="4582800" y="5270760"/>
                  <a:ext cx="155520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Rectangle 66"/>
                <p:cNvSpPr/>
                <p:nvPr/>
              </p:nvSpPr>
              <p:spPr>
                <a:xfrm>
                  <a:off x="4533120" y="527076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2" name="Group 69"/>
              <p:cNvGrpSpPr/>
              <p:nvPr/>
            </p:nvGrpSpPr>
            <p:grpSpPr>
              <a:xfrm>
                <a:off x="6188040" y="5270760"/>
                <a:ext cx="1654200" cy="295560"/>
                <a:chOff x="6188040" y="5270760"/>
                <a:chExt cx="1654200" cy="295560"/>
              </a:xfrm>
            </p:grpSpPr>
            <p:sp>
              <p:nvSpPr>
                <p:cNvPr id="783" name="Rectangle 961"/>
                <p:cNvSpPr/>
                <p:nvPr/>
              </p:nvSpPr>
              <p:spPr>
                <a:xfrm>
                  <a:off x="6237720" y="5270760"/>
                  <a:ext cx="155484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4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Rectangle 68"/>
                <p:cNvSpPr/>
                <p:nvPr/>
              </p:nvSpPr>
              <p:spPr>
                <a:xfrm>
                  <a:off x="6188040" y="527076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5" name="Group 71"/>
              <p:cNvGrpSpPr/>
              <p:nvPr/>
            </p:nvGrpSpPr>
            <p:grpSpPr>
              <a:xfrm>
                <a:off x="1224360" y="5566320"/>
                <a:ext cx="1806480" cy="381960"/>
                <a:chOff x="1224360" y="5566320"/>
                <a:chExt cx="1806480" cy="381960"/>
              </a:xfrm>
            </p:grpSpPr>
            <p:sp>
              <p:nvSpPr>
                <p:cNvPr id="786" name="Rectangle 962"/>
                <p:cNvSpPr/>
                <p:nvPr/>
              </p:nvSpPr>
              <p:spPr>
                <a:xfrm>
                  <a:off x="1273680" y="5566320"/>
                  <a:ext cx="1707480" cy="38196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Pendeln von der Arbeit am Abe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Rectangle 70"/>
                <p:cNvSpPr/>
                <p:nvPr/>
              </p:nvSpPr>
              <p:spPr>
                <a:xfrm>
                  <a:off x="1224360" y="5566320"/>
                  <a:ext cx="1806480" cy="3819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8" name="Group 73"/>
              <p:cNvGrpSpPr/>
              <p:nvPr/>
            </p:nvGrpSpPr>
            <p:grpSpPr>
              <a:xfrm>
                <a:off x="3031200" y="5566320"/>
                <a:ext cx="1501560" cy="381960"/>
                <a:chOff x="3031200" y="5566320"/>
                <a:chExt cx="1501560" cy="381960"/>
              </a:xfrm>
            </p:grpSpPr>
            <p:sp>
              <p:nvSpPr>
                <p:cNvPr id="789" name="Rectangle 963"/>
                <p:cNvSpPr/>
                <p:nvPr/>
              </p:nvSpPr>
              <p:spPr>
                <a:xfrm>
                  <a:off x="3080520" y="5566320"/>
                  <a:ext cx="1402920" cy="3819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2.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Rectangle 72"/>
                <p:cNvSpPr/>
                <p:nvPr/>
              </p:nvSpPr>
              <p:spPr>
                <a:xfrm>
                  <a:off x="3031200" y="5566320"/>
                  <a:ext cx="1501560" cy="3819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Group 75"/>
              <p:cNvGrpSpPr/>
              <p:nvPr/>
            </p:nvGrpSpPr>
            <p:grpSpPr>
              <a:xfrm>
                <a:off x="4533120" y="5566320"/>
                <a:ext cx="1654200" cy="381960"/>
                <a:chOff x="4533120" y="5566320"/>
                <a:chExt cx="1654200" cy="381960"/>
              </a:xfrm>
            </p:grpSpPr>
            <p:sp>
              <p:nvSpPr>
                <p:cNvPr id="792" name="Rectangle 964"/>
                <p:cNvSpPr/>
                <p:nvPr/>
              </p:nvSpPr>
              <p:spPr>
                <a:xfrm>
                  <a:off x="4582800" y="5566320"/>
                  <a:ext cx="1555200" cy="3819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0.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Rectangle 74"/>
                <p:cNvSpPr/>
                <p:nvPr/>
              </p:nvSpPr>
              <p:spPr>
                <a:xfrm>
                  <a:off x="4533120" y="5566320"/>
                  <a:ext cx="1654200" cy="3819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Group 77"/>
              <p:cNvGrpSpPr/>
              <p:nvPr/>
            </p:nvGrpSpPr>
            <p:grpSpPr>
              <a:xfrm>
                <a:off x="6188040" y="5566320"/>
                <a:ext cx="1654200" cy="381960"/>
                <a:chOff x="6188040" y="5566320"/>
                <a:chExt cx="1654200" cy="381960"/>
              </a:xfrm>
            </p:grpSpPr>
            <p:sp>
              <p:nvSpPr>
                <p:cNvPr id="795" name="Rectangle 965"/>
                <p:cNvSpPr/>
                <p:nvPr/>
              </p:nvSpPr>
              <p:spPr>
                <a:xfrm>
                  <a:off x="6237720" y="5566320"/>
                  <a:ext cx="1554840" cy="3819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6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Rectangle 76"/>
                <p:cNvSpPr/>
                <p:nvPr/>
              </p:nvSpPr>
              <p:spPr>
                <a:xfrm>
                  <a:off x="6188040" y="5566320"/>
                  <a:ext cx="1654200" cy="3819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Group 79"/>
              <p:cNvGrpSpPr/>
              <p:nvPr/>
            </p:nvGrpSpPr>
            <p:grpSpPr>
              <a:xfrm>
                <a:off x="1224360" y="5948640"/>
                <a:ext cx="1806480" cy="295560"/>
                <a:chOff x="1224360" y="5948640"/>
                <a:chExt cx="1806480" cy="295560"/>
              </a:xfrm>
            </p:grpSpPr>
            <p:sp>
              <p:nvSpPr>
                <p:cNvPr id="798" name="Rectangle 966"/>
                <p:cNvSpPr/>
                <p:nvPr/>
              </p:nvSpPr>
              <p:spPr>
                <a:xfrm>
                  <a:off x="1273680" y="5948640"/>
                  <a:ext cx="170748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Bezahlte Arbe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Rectangle 78"/>
                <p:cNvSpPr/>
                <p:nvPr/>
              </p:nvSpPr>
              <p:spPr>
                <a:xfrm>
                  <a:off x="1224360" y="5948640"/>
                  <a:ext cx="180648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0" name="Group 81"/>
              <p:cNvGrpSpPr/>
              <p:nvPr/>
            </p:nvGrpSpPr>
            <p:grpSpPr>
              <a:xfrm>
                <a:off x="3031200" y="5948640"/>
                <a:ext cx="1501560" cy="295560"/>
                <a:chOff x="3031200" y="5948640"/>
                <a:chExt cx="1501560" cy="295560"/>
              </a:xfrm>
            </p:grpSpPr>
            <p:sp>
              <p:nvSpPr>
                <p:cNvPr id="801" name="Rectangle 967"/>
                <p:cNvSpPr/>
                <p:nvPr/>
              </p:nvSpPr>
              <p:spPr>
                <a:xfrm>
                  <a:off x="3080520" y="5948640"/>
                  <a:ext cx="140292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2.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Rectangle 80"/>
                <p:cNvSpPr/>
                <p:nvPr/>
              </p:nvSpPr>
              <p:spPr>
                <a:xfrm>
                  <a:off x="3031200" y="5948640"/>
                  <a:ext cx="150156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3" name="Group 83"/>
              <p:cNvGrpSpPr/>
              <p:nvPr/>
            </p:nvGrpSpPr>
            <p:grpSpPr>
              <a:xfrm>
                <a:off x="4533120" y="5948640"/>
                <a:ext cx="1654200" cy="295560"/>
                <a:chOff x="4533120" y="5948640"/>
                <a:chExt cx="1654200" cy="295560"/>
              </a:xfrm>
            </p:grpSpPr>
            <p:sp>
              <p:nvSpPr>
                <p:cNvPr id="804" name="Rectangle 968"/>
                <p:cNvSpPr/>
                <p:nvPr/>
              </p:nvSpPr>
              <p:spPr>
                <a:xfrm>
                  <a:off x="4582800" y="5948640"/>
                  <a:ext cx="155520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6.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Rectangle 82"/>
                <p:cNvSpPr/>
                <p:nvPr/>
              </p:nvSpPr>
              <p:spPr>
                <a:xfrm>
                  <a:off x="4533120" y="594864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6" name="Group 85"/>
              <p:cNvGrpSpPr/>
              <p:nvPr/>
            </p:nvGrpSpPr>
            <p:grpSpPr>
              <a:xfrm>
                <a:off x="6188040" y="5948640"/>
                <a:ext cx="1654200" cy="295560"/>
                <a:chOff x="6188040" y="5948640"/>
                <a:chExt cx="1654200" cy="295560"/>
              </a:xfrm>
            </p:grpSpPr>
            <p:sp>
              <p:nvSpPr>
                <p:cNvPr id="807" name="Rectangle 969"/>
                <p:cNvSpPr/>
                <p:nvPr/>
              </p:nvSpPr>
              <p:spPr>
                <a:xfrm>
                  <a:off x="6237720" y="5948640"/>
                  <a:ext cx="1554840" cy="295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1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Rectangle 84"/>
                <p:cNvSpPr/>
                <p:nvPr/>
              </p:nvSpPr>
              <p:spPr>
                <a:xfrm>
                  <a:off x="6188040" y="5948640"/>
                  <a:ext cx="1654200" cy="2955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9" name="Group 87"/>
              <p:cNvGrpSpPr/>
              <p:nvPr/>
            </p:nvGrpSpPr>
            <p:grpSpPr>
              <a:xfrm>
                <a:off x="1224360" y="6244200"/>
                <a:ext cx="1806480" cy="381960"/>
                <a:chOff x="1224360" y="6244200"/>
                <a:chExt cx="1806480" cy="381960"/>
              </a:xfrm>
            </p:grpSpPr>
            <p:sp>
              <p:nvSpPr>
                <p:cNvPr id="810" name="Rectangle 970"/>
                <p:cNvSpPr/>
                <p:nvPr/>
              </p:nvSpPr>
              <p:spPr>
                <a:xfrm>
                  <a:off x="1273680" y="6244200"/>
                  <a:ext cx="1707480" cy="38196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0000"/>
                      </a:solidFill>
                      <a:latin typeface="Arial"/>
                      <a:ea typeface="Times New Roman"/>
                    </a:rPr>
                    <a:t>Pendeln zur Arbeit am Morg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86"/>
                <p:cNvSpPr/>
                <p:nvPr/>
              </p:nvSpPr>
              <p:spPr>
                <a:xfrm>
                  <a:off x="1224360" y="6244200"/>
                  <a:ext cx="1806480" cy="3819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2" name="Group 89"/>
              <p:cNvGrpSpPr/>
              <p:nvPr/>
            </p:nvGrpSpPr>
            <p:grpSpPr>
              <a:xfrm>
                <a:off x="3031200" y="6244200"/>
                <a:ext cx="1501560" cy="381960"/>
                <a:chOff x="3031200" y="6244200"/>
                <a:chExt cx="1501560" cy="381960"/>
              </a:xfrm>
            </p:grpSpPr>
            <p:sp>
              <p:nvSpPr>
                <p:cNvPr id="813" name="Rectangle 971"/>
                <p:cNvSpPr/>
                <p:nvPr/>
              </p:nvSpPr>
              <p:spPr>
                <a:xfrm>
                  <a:off x="3080520" y="6244200"/>
                  <a:ext cx="1402920" cy="3819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0000"/>
                      </a:solidFill>
                      <a:latin typeface="Arial"/>
                      <a:ea typeface="Times New Roman"/>
                    </a:rPr>
                    <a:t>2.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Rectangle 88"/>
                <p:cNvSpPr/>
                <p:nvPr/>
              </p:nvSpPr>
              <p:spPr>
                <a:xfrm>
                  <a:off x="3031200" y="6244200"/>
                  <a:ext cx="1501560" cy="3819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5" name="Group 91"/>
              <p:cNvGrpSpPr/>
              <p:nvPr/>
            </p:nvGrpSpPr>
            <p:grpSpPr>
              <a:xfrm>
                <a:off x="4533120" y="6244200"/>
                <a:ext cx="1654200" cy="381960"/>
                <a:chOff x="4533120" y="6244200"/>
                <a:chExt cx="1654200" cy="381960"/>
              </a:xfrm>
            </p:grpSpPr>
            <p:sp>
              <p:nvSpPr>
                <p:cNvPr id="816" name="Rectangle 972"/>
                <p:cNvSpPr/>
                <p:nvPr/>
              </p:nvSpPr>
              <p:spPr>
                <a:xfrm>
                  <a:off x="4582800" y="6244200"/>
                  <a:ext cx="1555200" cy="3819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0000"/>
                      </a:solidFill>
                      <a:latin typeface="Arial"/>
                      <a:ea typeface="Times New Roman"/>
                    </a:rPr>
                    <a:t>0.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Rectangle 90"/>
                <p:cNvSpPr/>
                <p:nvPr/>
              </p:nvSpPr>
              <p:spPr>
                <a:xfrm>
                  <a:off x="4533120" y="6244200"/>
                  <a:ext cx="1654200" cy="3819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8" name="Group 93"/>
              <p:cNvGrpSpPr/>
              <p:nvPr/>
            </p:nvGrpSpPr>
            <p:grpSpPr>
              <a:xfrm>
                <a:off x="6188040" y="6244200"/>
                <a:ext cx="1654200" cy="381960"/>
                <a:chOff x="6188040" y="6244200"/>
                <a:chExt cx="1654200" cy="381960"/>
              </a:xfrm>
            </p:grpSpPr>
            <p:sp>
              <p:nvSpPr>
                <p:cNvPr id="819" name="Rectangle 973"/>
                <p:cNvSpPr/>
                <p:nvPr/>
              </p:nvSpPr>
              <p:spPr>
                <a:xfrm>
                  <a:off x="6237720" y="6244200"/>
                  <a:ext cx="1554840" cy="3819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0000"/>
                      </a:solidFill>
                      <a:latin typeface="Arial"/>
                      <a:ea typeface="Times New Roman"/>
                    </a:rPr>
                    <a:t>6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Rectangle 92"/>
                <p:cNvSpPr/>
                <p:nvPr/>
              </p:nvSpPr>
              <p:spPr>
                <a:xfrm>
                  <a:off x="6188040" y="6244200"/>
                  <a:ext cx="1654200" cy="3819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21" name="Rectangle 95"/>
            <p:cNvSpPr/>
            <p:nvPr/>
          </p:nvSpPr>
          <p:spPr>
            <a:xfrm>
              <a:off x="1219320" y="609480"/>
              <a:ext cx="6629040" cy="601992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2" name="Text Box 97"/>
          <p:cNvSpPr/>
          <p:nvPr/>
        </p:nvSpPr>
        <p:spPr>
          <a:xfrm>
            <a:off x="456840" y="228600"/>
            <a:ext cx="8236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ea typeface="Times New Roman"/>
              </a:rPr>
              <a:t>Glücksempfinden von Texanischen Frauen bei verschiedenen Tätigkeiten</a:t>
            </a:r>
            <a:r>
              <a:rPr b="0" lang="de-D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5"/>
          <p:cNvSpPr/>
          <p:nvPr/>
        </p:nvSpPr>
        <p:spPr>
          <a:xfrm>
            <a:off x="0" y="15228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ea typeface="Times New Roman"/>
              </a:rPr>
              <a:t>Glücksempfinden der Texanischen Frauen bei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ea typeface="Times New Roman"/>
              </a:rPr>
              <a:t>Zusammensein mit verschiedenen Person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4" name="Group 116"/>
          <p:cNvGrpSpPr/>
          <p:nvPr/>
        </p:nvGrpSpPr>
        <p:grpSpPr>
          <a:xfrm>
            <a:off x="1371600" y="914400"/>
            <a:ext cx="6171840" cy="5443200"/>
            <a:chOff x="1371600" y="914400"/>
            <a:chExt cx="6171840" cy="5443200"/>
          </a:xfrm>
        </p:grpSpPr>
        <p:grpSp>
          <p:nvGrpSpPr>
            <p:cNvPr id="825" name="Group 114"/>
            <p:cNvGrpSpPr/>
            <p:nvPr/>
          </p:nvGrpSpPr>
          <p:grpSpPr>
            <a:xfrm>
              <a:off x="1376280" y="919080"/>
              <a:ext cx="6161400" cy="5433840"/>
              <a:chOff x="1376280" y="919080"/>
              <a:chExt cx="6161400" cy="5433840"/>
            </a:xfrm>
          </p:grpSpPr>
          <p:grpSp>
            <p:nvGrpSpPr>
              <p:cNvPr id="826" name="Group 43"/>
              <p:cNvGrpSpPr/>
              <p:nvPr/>
            </p:nvGrpSpPr>
            <p:grpSpPr>
              <a:xfrm>
                <a:off x="1376280" y="919080"/>
                <a:ext cx="1800360" cy="976320"/>
                <a:chOff x="1376280" y="919080"/>
                <a:chExt cx="1800360" cy="976320"/>
              </a:xfrm>
            </p:grpSpPr>
            <p:sp>
              <p:nvSpPr>
                <p:cNvPr id="827" name="Rectangle 6"/>
                <p:cNvSpPr/>
                <p:nvPr/>
              </p:nvSpPr>
              <p:spPr>
                <a:xfrm>
                  <a:off x="1422000" y="919080"/>
                  <a:ext cx="1708560" cy="976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Zusammensein mit folgenden Person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8" name="Rectangle 42"/>
                <p:cNvSpPr/>
                <p:nvPr/>
              </p:nvSpPr>
              <p:spPr>
                <a:xfrm>
                  <a:off x="1376280" y="919080"/>
                  <a:ext cx="1800360" cy="9763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9" name="Group 45"/>
              <p:cNvGrpSpPr/>
              <p:nvPr/>
            </p:nvGrpSpPr>
            <p:grpSpPr>
              <a:xfrm>
                <a:off x="3177000" y="919080"/>
                <a:ext cx="1279440" cy="976320"/>
                <a:chOff x="3177000" y="919080"/>
                <a:chExt cx="1279440" cy="976320"/>
              </a:xfrm>
            </p:grpSpPr>
            <p:sp>
              <p:nvSpPr>
                <p:cNvPr id="830" name="Rectangle 7"/>
                <p:cNvSpPr/>
                <p:nvPr/>
              </p:nvSpPr>
              <p:spPr>
                <a:xfrm>
                  <a:off x="3223080" y="919080"/>
                  <a:ext cx="1187280" cy="976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Glücksinde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1" name="Rectangle 44"/>
                <p:cNvSpPr/>
                <p:nvPr/>
              </p:nvSpPr>
              <p:spPr>
                <a:xfrm>
                  <a:off x="3177000" y="919080"/>
                  <a:ext cx="1279440" cy="9763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Group 47"/>
              <p:cNvGrpSpPr/>
              <p:nvPr/>
            </p:nvGrpSpPr>
            <p:grpSpPr>
              <a:xfrm>
                <a:off x="4456800" y="919080"/>
                <a:ext cx="1540080" cy="976320"/>
                <a:chOff x="4456800" y="919080"/>
                <a:chExt cx="1540080" cy="976320"/>
              </a:xfrm>
            </p:grpSpPr>
            <p:sp>
              <p:nvSpPr>
                <p:cNvPr id="833" name="Rectangle 8"/>
                <p:cNvSpPr/>
                <p:nvPr/>
              </p:nvSpPr>
              <p:spPr>
                <a:xfrm>
                  <a:off x="4502880" y="919080"/>
                  <a:ext cx="1447920" cy="976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Durchschnittlich mit Person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verbrachte Ze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in Stund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4" name="Rectangle 46"/>
                <p:cNvSpPr/>
                <p:nvPr/>
              </p:nvSpPr>
              <p:spPr>
                <a:xfrm>
                  <a:off x="4456800" y="919080"/>
                  <a:ext cx="1540080" cy="9763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Group 49"/>
              <p:cNvGrpSpPr/>
              <p:nvPr/>
            </p:nvGrpSpPr>
            <p:grpSpPr>
              <a:xfrm>
                <a:off x="5997600" y="919080"/>
                <a:ext cx="1540080" cy="976320"/>
                <a:chOff x="5997600" y="919080"/>
                <a:chExt cx="1540080" cy="976320"/>
              </a:xfrm>
            </p:grpSpPr>
            <p:sp>
              <p:nvSpPr>
                <p:cNvPr id="836" name="Rectangle 9"/>
                <p:cNvSpPr/>
                <p:nvPr/>
              </p:nvSpPr>
              <p:spPr>
                <a:xfrm>
                  <a:off x="6043680" y="919080"/>
                  <a:ext cx="1447560" cy="976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Prozentzahl der Frauen, welche mit Personen zusammen w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7" name="Rectangle 48"/>
                <p:cNvSpPr/>
                <p:nvPr/>
              </p:nvSpPr>
              <p:spPr>
                <a:xfrm>
                  <a:off x="5997600" y="919080"/>
                  <a:ext cx="1540080" cy="9763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Group 51"/>
              <p:cNvGrpSpPr/>
              <p:nvPr/>
            </p:nvGrpSpPr>
            <p:grpSpPr>
              <a:xfrm>
                <a:off x="1376280" y="1895400"/>
                <a:ext cx="1800360" cy="519120"/>
                <a:chOff x="1376280" y="1895400"/>
                <a:chExt cx="1800360" cy="519120"/>
              </a:xfrm>
            </p:grpSpPr>
            <p:sp>
              <p:nvSpPr>
                <p:cNvPr id="839" name="Rectangle 10"/>
                <p:cNvSpPr/>
                <p:nvPr/>
              </p:nvSpPr>
              <p:spPr>
                <a:xfrm>
                  <a:off x="1422000" y="1895400"/>
                  <a:ext cx="170856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Mit Freund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0" name="Rectangle 50"/>
                <p:cNvSpPr/>
                <p:nvPr/>
              </p:nvSpPr>
              <p:spPr>
                <a:xfrm>
                  <a:off x="1376280" y="1895400"/>
                  <a:ext cx="180036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1" name="Group 53"/>
              <p:cNvGrpSpPr/>
              <p:nvPr/>
            </p:nvGrpSpPr>
            <p:grpSpPr>
              <a:xfrm>
                <a:off x="3177000" y="1895400"/>
                <a:ext cx="1279440" cy="519120"/>
                <a:chOff x="3177000" y="1895400"/>
                <a:chExt cx="1279440" cy="519120"/>
              </a:xfrm>
            </p:grpSpPr>
            <p:sp>
              <p:nvSpPr>
                <p:cNvPr id="842" name="Rectangle 11"/>
                <p:cNvSpPr/>
                <p:nvPr/>
              </p:nvSpPr>
              <p:spPr>
                <a:xfrm>
                  <a:off x="3223080" y="1895400"/>
                  <a:ext cx="118728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3.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3" name="Rectangle 52"/>
                <p:cNvSpPr/>
                <p:nvPr/>
              </p:nvSpPr>
              <p:spPr>
                <a:xfrm>
                  <a:off x="3177000" y="1895400"/>
                  <a:ext cx="127944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4" name="Group 55"/>
              <p:cNvGrpSpPr/>
              <p:nvPr/>
            </p:nvGrpSpPr>
            <p:grpSpPr>
              <a:xfrm>
                <a:off x="4456800" y="1895400"/>
                <a:ext cx="1540080" cy="519120"/>
                <a:chOff x="4456800" y="1895400"/>
                <a:chExt cx="1540080" cy="519120"/>
              </a:xfrm>
            </p:grpSpPr>
            <p:sp>
              <p:nvSpPr>
                <p:cNvPr id="845" name="Rectangle 12"/>
                <p:cNvSpPr/>
                <p:nvPr/>
              </p:nvSpPr>
              <p:spPr>
                <a:xfrm>
                  <a:off x="4502880" y="1895400"/>
                  <a:ext cx="144792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2.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6" name="Rectangle 54"/>
                <p:cNvSpPr/>
                <p:nvPr/>
              </p:nvSpPr>
              <p:spPr>
                <a:xfrm>
                  <a:off x="4456800" y="1895400"/>
                  <a:ext cx="154008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7" name="Group 57"/>
              <p:cNvGrpSpPr/>
              <p:nvPr/>
            </p:nvGrpSpPr>
            <p:grpSpPr>
              <a:xfrm>
                <a:off x="5997600" y="1895400"/>
                <a:ext cx="1540080" cy="519120"/>
                <a:chOff x="5997600" y="1895400"/>
                <a:chExt cx="1540080" cy="519120"/>
              </a:xfrm>
            </p:grpSpPr>
            <p:sp>
              <p:nvSpPr>
                <p:cNvPr id="848" name="Rectangle 13"/>
                <p:cNvSpPr/>
                <p:nvPr/>
              </p:nvSpPr>
              <p:spPr>
                <a:xfrm>
                  <a:off x="6043680" y="1895400"/>
                  <a:ext cx="144756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6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9" name="Rectangle 56"/>
                <p:cNvSpPr/>
                <p:nvPr/>
              </p:nvSpPr>
              <p:spPr>
                <a:xfrm>
                  <a:off x="5997600" y="1895400"/>
                  <a:ext cx="154008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0" name="Group 59"/>
              <p:cNvGrpSpPr/>
              <p:nvPr/>
            </p:nvGrpSpPr>
            <p:grpSpPr>
              <a:xfrm>
                <a:off x="1376280" y="2414520"/>
                <a:ext cx="1800360" cy="519120"/>
                <a:chOff x="1376280" y="2414520"/>
                <a:chExt cx="1800360" cy="519120"/>
              </a:xfrm>
            </p:grpSpPr>
            <p:sp>
              <p:nvSpPr>
                <p:cNvPr id="851" name="Rectangle 14"/>
                <p:cNvSpPr/>
                <p:nvPr/>
              </p:nvSpPr>
              <p:spPr>
                <a:xfrm>
                  <a:off x="1422000" y="2414520"/>
                  <a:ext cx="170856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Mit Verwandt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2" name="Rectangle 58"/>
                <p:cNvSpPr/>
                <p:nvPr/>
              </p:nvSpPr>
              <p:spPr>
                <a:xfrm>
                  <a:off x="1376280" y="2414520"/>
                  <a:ext cx="180036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3" name="Group 61"/>
              <p:cNvGrpSpPr/>
              <p:nvPr/>
            </p:nvGrpSpPr>
            <p:grpSpPr>
              <a:xfrm>
                <a:off x="3177000" y="2414520"/>
                <a:ext cx="1279440" cy="519120"/>
                <a:chOff x="3177000" y="2414520"/>
                <a:chExt cx="1279440" cy="519120"/>
              </a:xfrm>
            </p:grpSpPr>
            <p:sp>
              <p:nvSpPr>
                <p:cNvPr id="854" name="Rectangle 15"/>
                <p:cNvSpPr/>
                <p:nvPr/>
              </p:nvSpPr>
              <p:spPr>
                <a:xfrm>
                  <a:off x="3223080" y="2414520"/>
                  <a:ext cx="118728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3.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5" name="Rectangle 60"/>
                <p:cNvSpPr/>
                <p:nvPr/>
              </p:nvSpPr>
              <p:spPr>
                <a:xfrm>
                  <a:off x="3177000" y="2414520"/>
                  <a:ext cx="127944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6" name="Group 63"/>
              <p:cNvGrpSpPr/>
              <p:nvPr/>
            </p:nvGrpSpPr>
            <p:grpSpPr>
              <a:xfrm>
                <a:off x="4456800" y="2414520"/>
                <a:ext cx="1540080" cy="519120"/>
                <a:chOff x="4456800" y="2414520"/>
                <a:chExt cx="1540080" cy="519120"/>
              </a:xfrm>
            </p:grpSpPr>
            <p:sp>
              <p:nvSpPr>
                <p:cNvPr id="857" name="Rectangle 16"/>
                <p:cNvSpPr/>
                <p:nvPr/>
              </p:nvSpPr>
              <p:spPr>
                <a:xfrm>
                  <a:off x="4502880" y="2414520"/>
                  <a:ext cx="144792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1.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8" name="Rectangle 62"/>
                <p:cNvSpPr/>
                <p:nvPr/>
              </p:nvSpPr>
              <p:spPr>
                <a:xfrm>
                  <a:off x="4456800" y="2414520"/>
                  <a:ext cx="154008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9" name="Group 65"/>
              <p:cNvGrpSpPr/>
              <p:nvPr/>
            </p:nvGrpSpPr>
            <p:grpSpPr>
              <a:xfrm>
                <a:off x="5997600" y="2414520"/>
                <a:ext cx="1540080" cy="519120"/>
                <a:chOff x="5997600" y="2414520"/>
                <a:chExt cx="1540080" cy="519120"/>
              </a:xfrm>
            </p:grpSpPr>
            <p:sp>
              <p:nvSpPr>
                <p:cNvPr id="860" name="Rectangle 17"/>
                <p:cNvSpPr/>
                <p:nvPr/>
              </p:nvSpPr>
              <p:spPr>
                <a:xfrm>
                  <a:off x="6043680" y="2414520"/>
                  <a:ext cx="144756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3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1" name="Rectangle 64"/>
                <p:cNvSpPr/>
                <p:nvPr/>
              </p:nvSpPr>
              <p:spPr>
                <a:xfrm>
                  <a:off x="5997600" y="2414520"/>
                  <a:ext cx="154008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2" name="Group 67"/>
              <p:cNvGrpSpPr/>
              <p:nvPr/>
            </p:nvGrpSpPr>
            <p:grpSpPr>
              <a:xfrm>
                <a:off x="1376280" y="2933640"/>
                <a:ext cx="1800360" cy="519120"/>
                <a:chOff x="1376280" y="2933640"/>
                <a:chExt cx="1800360" cy="519120"/>
              </a:xfrm>
            </p:grpSpPr>
            <p:sp>
              <p:nvSpPr>
                <p:cNvPr id="863" name="Rectangle 18"/>
                <p:cNvSpPr/>
                <p:nvPr/>
              </p:nvSpPr>
              <p:spPr>
                <a:xfrm>
                  <a:off x="1422000" y="2933640"/>
                  <a:ext cx="170856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Mit Ehegatt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4" name="Rectangle 66"/>
                <p:cNvSpPr/>
                <p:nvPr/>
              </p:nvSpPr>
              <p:spPr>
                <a:xfrm>
                  <a:off x="1376280" y="2933640"/>
                  <a:ext cx="180036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5" name="Group 69"/>
              <p:cNvGrpSpPr/>
              <p:nvPr/>
            </p:nvGrpSpPr>
            <p:grpSpPr>
              <a:xfrm>
                <a:off x="3177000" y="2933640"/>
                <a:ext cx="1279440" cy="519120"/>
                <a:chOff x="3177000" y="2933640"/>
                <a:chExt cx="1279440" cy="519120"/>
              </a:xfrm>
            </p:grpSpPr>
            <p:sp>
              <p:nvSpPr>
                <p:cNvPr id="866" name="Rectangle 19"/>
                <p:cNvSpPr/>
                <p:nvPr/>
              </p:nvSpPr>
              <p:spPr>
                <a:xfrm>
                  <a:off x="3223080" y="2933640"/>
                  <a:ext cx="118728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2.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7" name="Rectangle 68"/>
                <p:cNvSpPr/>
                <p:nvPr/>
              </p:nvSpPr>
              <p:spPr>
                <a:xfrm>
                  <a:off x="3177000" y="2933640"/>
                  <a:ext cx="127944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8" name="Group 71"/>
              <p:cNvGrpSpPr/>
              <p:nvPr/>
            </p:nvGrpSpPr>
            <p:grpSpPr>
              <a:xfrm>
                <a:off x="4456800" y="2933640"/>
                <a:ext cx="1540080" cy="519120"/>
                <a:chOff x="4456800" y="2933640"/>
                <a:chExt cx="1540080" cy="519120"/>
              </a:xfrm>
            </p:grpSpPr>
            <p:sp>
              <p:nvSpPr>
                <p:cNvPr id="869" name="Rectangle 20"/>
                <p:cNvSpPr/>
                <p:nvPr/>
              </p:nvSpPr>
              <p:spPr>
                <a:xfrm>
                  <a:off x="4502880" y="2933640"/>
                  <a:ext cx="144792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2.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0" name="Rectangle 70"/>
                <p:cNvSpPr/>
                <p:nvPr/>
              </p:nvSpPr>
              <p:spPr>
                <a:xfrm>
                  <a:off x="4456800" y="2933640"/>
                  <a:ext cx="154008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1" name="Group 73"/>
              <p:cNvGrpSpPr/>
              <p:nvPr/>
            </p:nvGrpSpPr>
            <p:grpSpPr>
              <a:xfrm>
                <a:off x="5997600" y="2933640"/>
                <a:ext cx="1540080" cy="519120"/>
                <a:chOff x="5997600" y="2933640"/>
                <a:chExt cx="1540080" cy="519120"/>
              </a:xfrm>
            </p:grpSpPr>
            <p:sp>
              <p:nvSpPr>
                <p:cNvPr id="872" name="Rectangle 21"/>
                <p:cNvSpPr/>
                <p:nvPr/>
              </p:nvSpPr>
              <p:spPr>
                <a:xfrm>
                  <a:off x="6043680" y="2933640"/>
                  <a:ext cx="144756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6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3" name="Rectangle 72"/>
                <p:cNvSpPr/>
                <p:nvPr/>
              </p:nvSpPr>
              <p:spPr>
                <a:xfrm>
                  <a:off x="5997600" y="2933640"/>
                  <a:ext cx="154008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Group 75"/>
              <p:cNvGrpSpPr/>
              <p:nvPr/>
            </p:nvGrpSpPr>
            <p:grpSpPr>
              <a:xfrm>
                <a:off x="1376280" y="3452760"/>
                <a:ext cx="1800360" cy="519120"/>
                <a:chOff x="1376280" y="3452760"/>
                <a:chExt cx="1800360" cy="519120"/>
              </a:xfrm>
            </p:grpSpPr>
            <p:sp>
              <p:nvSpPr>
                <p:cNvPr id="875" name="Rectangle 22"/>
                <p:cNvSpPr/>
                <p:nvPr/>
              </p:nvSpPr>
              <p:spPr>
                <a:xfrm>
                  <a:off x="1422000" y="3452760"/>
                  <a:ext cx="170856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Mit Kinder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6" name="Rectangle 74"/>
                <p:cNvSpPr/>
                <p:nvPr/>
              </p:nvSpPr>
              <p:spPr>
                <a:xfrm>
                  <a:off x="1376280" y="3452760"/>
                  <a:ext cx="180036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Group 77"/>
              <p:cNvGrpSpPr/>
              <p:nvPr/>
            </p:nvGrpSpPr>
            <p:grpSpPr>
              <a:xfrm>
                <a:off x="3177000" y="3452760"/>
                <a:ext cx="1279440" cy="519120"/>
                <a:chOff x="3177000" y="3452760"/>
                <a:chExt cx="1279440" cy="519120"/>
              </a:xfrm>
            </p:grpSpPr>
            <p:sp>
              <p:nvSpPr>
                <p:cNvPr id="878" name="Rectangle 23"/>
                <p:cNvSpPr/>
                <p:nvPr/>
              </p:nvSpPr>
              <p:spPr>
                <a:xfrm>
                  <a:off x="3223080" y="3452760"/>
                  <a:ext cx="118728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2.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9" name="Rectangle 76"/>
                <p:cNvSpPr/>
                <p:nvPr/>
              </p:nvSpPr>
              <p:spPr>
                <a:xfrm>
                  <a:off x="3177000" y="3452760"/>
                  <a:ext cx="127944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Group 79"/>
              <p:cNvGrpSpPr/>
              <p:nvPr/>
            </p:nvGrpSpPr>
            <p:grpSpPr>
              <a:xfrm>
                <a:off x="4456800" y="3452760"/>
                <a:ext cx="1540080" cy="519120"/>
                <a:chOff x="4456800" y="3452760"/>
                <a:chExt cx="1540080" cy="519120"/>
              </a:xfrm>
            </p:grpSpPr>
            <p:sp>
              <p:nvSpPr>
                <p:cNvPr id="881" name="Rectangle 24"/>
                <p:cNvSpPr/>
                <p:nvPr/>
              </p:nvSpPr>
              <p:spPr>
                <a:xfrm>
                  <a:off x="4502880" y="3452760"/>
                  <a:ext cx="144792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2.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2" name="Rectangle 78"/>
                <p:cNvSpPr/>
                <p:nvPr/>
              </p:nvSpPr>
              <p:spPr>
                <a:xfrm>
                  <a:off x="4456800" y="3452760"/>
                  <a:ext cx="154008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3" name="Group 81"/>
              <p:cNvGrpSpPr/>
              <p:nvPr/>
            </p:nvGrpSpPr>
            <p:grpSpPr>
              <a:xfrm>
                <a:off x="5997600" y="3452760"/>
                <a:ext cx="1540080" cy="519120"/>
                <a:chOff x="5997600" y="3452760"/>
                <a:chExt cx="1540080" cy="519120"/>
              </a:xfrm>
            </p:grpSpPr>
            <p:sp>
              <p:nvSpPr>
                <p:cNvPr id="884" name="Rectangle 25"/>
                <p:cNvSpPr/>
                <p:nvPr/>
              </p:nvSpPr>
              <p:spPr>
                <a:xfrm>
                  <a:off x="6043680" y="3452760"/>
                  <a:ext cx="144756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5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5" name="Rectangle 80"/>
                <p:cNvSpPr/>
                <p:nvPr/>
              </p:nvSpPr>
              <p:spPr>
                <a:xfrm>
                  <a:off x="5997600" y="3452760"/>
                  <a:ext cx="154008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6" name="Group 83"/>
              <p:cNvGrpSpPr/>
              <p:nvPr/>
            </p:nvGrpSpPr>
            <p:grpSpPr>
              <a:xfrm>
                <a:off x="1376280" y="3971880"/>
                <a:ext cx="1800360" cy="519120"/>
                <a:chOff x="1376280" y="3971880"/>
                <a:chExt cx="1800360" cy="519120"/>
              </a:xfrm>
            </p:grpSpPr>
            <p:sp>
              <p:nvSpPr>
                <p:cNvPr id="887" name="Rectangle 26"/>
                <p:cNvSpPr/>
                <p:nvPr/>
              </p:nvSpPr>
              <p:spPr>
                <a:xfrm>
                  <a:off x="1422000" y="3971880"/>
                  <a:ext cx="1708560" cy="519120"/>
                </a:xfrm>
                <a:prstGeom prst="rect">
                  <a:avLst/>
                </a:prstGeom>
                <a:noFill/>
                <a:ln w="0">
                  <a:noFill/>
                </a:ln>
              </p:spPr>
              <p:style>
                <a:lnRef idx="0"/>
                <a:fillRef idx="0"/>
                <a:effectRef idx="0"/>
                <a:fontRef idx="minor"/>
              </p:style>
              <p:txBody>
                <a:bodyPr lIns="90000" rIns="90000" tIns="46800" bIns="46800" anchor="t">
                  <a:normAutofit fontScale="8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Mit Kollegin-nen/Kolleg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8" name="Rectangle 82"/>
                <p:cNvSpPr/>
                <p:nvPr/>
              </p:nvSpPr>
              <p:spPr>
                <a:xfrm>
                  <a:off x="1376280" y="3971880"/>
                  <a:ext cx="180036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9" name="Group 85"/>
              <p:cNvGrpSpPr/>
              <p:nvPr/>
            </p:nvGrpSpPr>
            <p:grpSpPr>
              <a:xfrm>
                <a:off x="3177000" y="3971880"/>
                <a:ext cx="1279440" cy="519120"/>
                <a:chOff x="3177000" y="3971880"/>
                <a:chExt cx="1279440" cy="519120"/>
              </a:xfrm>
            </p:grpSpPr>
            <p:sp>
              <p:nvSpPr>
                <p:cNvPr id="890" name="Rectangle 27"/>
                <p:cNvSpPr/>
                <p:nvPr/>
              </p:nvSpPr>
              <p:spPr>
                <a:xfrm>
                  <a:off x="3223080" y="3971880"/>
                  <a:ext cx="118728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2.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1" name="Rectangle 84"/>
                <p:cNvSpPr/>
                <p:nvPr/>
              </p:nvSpPr>
              <p:spPr>
                <a:xfrm>
                  <a:off x="3177000" y="3971880"/>
                  <a:ext cx="127944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2" name="Group 87"/>
              <p:cNvGrpSpPr/>
              <p:nvPr/>
            </p:nvGrpSpPr>
            <p:grpSpPr>
              <a:xfrm>
                <a:off x="4456800" y="3971880"/>
                <a:ext cx="1540080" cy="519120"/>
                <a:chOff x="4456800" y="3971880"/>
                <a:chExt cx="1540080" cy="519120"/>
              </a:xfrm>
            </p:grpSpPr>
            <p:sp>
              <p:nvSpPr>
                <p:cNvPr id="893" name="Rectangle 28"/>
                <p:cNvSpPr/>
                <p:nvPr/>
              </p:nvSpPr>
              <p:spPr>
                <a:xfrm>
                  <a:off x="4502880" y="3971880"/>
                  <a:ext cx="144792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5.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4" name="Rectangle 86"/>
                <p:cNvSpPr/>
                <p:nvPr/>
              </p:nvSpPr>
              <p:spPr>
                <a:xfrm>
                  <a:off x="4456800" y="3971880"/>
                  <a:ext cx="154008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5" name="Group 89"/>
              <p:cNvGrpSpPr/>
              <p:nvPr/>
            </p:nvGrpSpPr>
            <p:grpSpPr>
              <a:xfrm>
                <a:off x="5997600" y="3971880"/>
                <a:ext cx="1540080" cy="519120"/>
                <a:chOff x="5997600" y="3971880"/>
                <a:chExt cx="1540080" cy="519120"/>
              </a:xfrm>
            </p:grpSpPr>
            <p:sp>
              <p:nvSpPr>
                <p:cNvPr id="896" name="Rectangle 29"/>
                <p:cNvSpPr/>
                <p:nvPr/>
              </p:nvSpPr>
              <p:spPr>
                <a:xfrm>
                  <a:off x="6043680" y="3971880"/>
                  <a:ext cx="144756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9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7" name="Rectangle 88"/>
                <p:cNvSpPr/>
                <p:nvPr/>
              </p:nvSpPr>
              <p:spPr>
                <a:xfrm>
                  <a:off x="5997600" y="3971880"/>
                  <a:ext cx="154008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8" name="Group 91"/>
              <p:cNvGrpSpPr/>
              <p:nvPr/>
            </p:nvGrpSpPr>
            <p:grpSpPr>
              <a:xfrm>
                <a:off x="1376280" y="4491000"/>
                <a:ext cx="1800360" cy="823680"/>
                <a:chOff x="1376280" y="4491000"/>
                <a:chExt cx="1800360" cy="823680"/>
              </a:xfrm>
            </p:grpSpPr>
            <p:sp>
              <p:nvSpPr>
                <p:cNvPr id="899" name="Rectangle 30"/>
                <p:cNvSpPr/>
                <p:nvPr/>
              </p:nvSpPr>
              <p:spPr>
                <a:xfrm>
                  <a:off x="1422000" y="4491000"/>
                  <a:ext cx="1708560" cy="823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Mit Kund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Geschäftspartnern</a:t>
                  </a:r>
                  <a:endParaRPr b="0" lang="en-US" sz="1400" spc="-1" strike="noStrike">
                    <a:solidFill>
                      <a:srgbClr val="000000"/>
                    </a:solidFill>
                    <a:latin typeface="Arial"/>
                  </a:endParaRPr>
                </a:p>
              </p:txBody>
            </p:sp>
            <p:sp>
              <p:nvSpPr>
                <p:cNvPr id="900" name="Rectangle 90"/>
                <p:cNvSpPr/>
                <p:nvPr/>
              </p:nvSpPr>
              <p:spPr>
                <a:xfrm>
                  <a:off x="1376280" y="4491000"/>
                  <a:ext cx="1800360" cy="8236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1" name="Group 93"/>
              <p:cNvGrpSpPr/>
              <p:nvPr/>
            </p:nvGrpSpPr>
            <p:grpSpPr>
              <a:xfrm>
                <a:off x="3177000" y="4491000"/>
                <a:ext cx="1279440" cy="823680"/>
                <a:chOff x="3177000" y="4491000"/>
                <a:chExt cx="1279440" cy="823680"/>
              </a:xfrm>
            </p:grpSpPr>
            <p:sp>
              <p:nvSpPr>
                <p:cNvPr id="902" name="Rectangle 31"/>
                <p:cNvSpPr/>
                <p:nvPr/>
              </p:nvSpPr>
              <p:spPr>
                <a:xfrm>
                  <a:off x="3223080" y="4491000"/>
                  <a:ext cx="1187280" cy="823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2.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ectangle 92"/>
                <p:cNvSpPr/>
                <p:nvPr/>
              </p:nvSpPr>
              <p:spPr>
                <a:xfrm>
                  <a:off x="3177000" y="4491000"/>
                  <a:ext cx="1279440" cy="8236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4" name="Group 95"/>
              <p:cNvGrpSpPr/>
              <p:nvPr/>
            </p:nvGrpSpPr>
            <p:grpSpPr>
              <a:xfrm>
                <a:off x="4456800" y="4491000"/>
                <a:ext cx="1540080" cy="823680"/>
                <a:chOff x="4456800" y="4491000"/>
                <a:chExt cx="1540080" cy="823680"/>
              </a:xfrm>
            </p:grpSpPr>
            <p:sp>
              <p:nvSpPr>
                <p:cNvPr id="905" name="Rectangle 32"/>
                <p:cNvSpPr/>
                <p:nvPr/>
              </p:nvSpPr>
              <p:spPr>
                <a:xfrm>
                  <a:off x="4502880" y="4491000"/>
                  <a:ext cx="1447920" cy="823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4.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6" name="Rectangle 94"/>
                <p:cNvSpPr/>
                <p:nvPr/>
              </p:nvSpPr>
              <p:spPr>
                <a:xfrm>
                  <a:off x="4456800" y="4491000"/>
                  <a:ext cx="1540080" cy="8236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7" name="Group 97"/>
              <p:cNvGrpSpPr/>
              <p:nvPr/>
            </p:nvGrpSpPr>
            <p:grpSpPr>
              <a:xfrm>
                <a:off x="5997600" y="4491000"/>
                <a:ext cx="1540080" cy="823680"/>
                <a:chOff x="5997600" y="4491000"/>
                <a:chExt cx="1540080" cy="823680"/>
              </a:xfrm>
            </p:grpSpPr>
            <p:sp>
              <p:nvSpPr>
                <p:cNvPr id="908" name="Rectangle 33"/>
                <p:cNvSpPr/>
                <p:nvPr/>
              </p:nvSpPr>
              <p:spPr>
                <a:xfrm>
                  <a:off x="6043680" y="4491000"/>
                  <a:ext cx="1447560" cy="823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7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9" name="Rectangle 96"/>
                <p:cNvSpPr/>
                <p:nvPr/>
              </p:nvSpPr>
              <p:spPr>
                <a:xfrm>
                  <a:off x="5997600" y="4491000"/>
                  <a:ext cx="1540080" cy="8236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0" name="Group 99"/>
              <p:cNvGrpSpPr/>
              <p:nvPr/>
            </p:nvGrpSpPr>
            <p:grpSpPr>
              <a:xfrm>
                <a:off x="1376280" y="5314680"/>
                <a:ext cx="1800360" cy="519120"/>
                <a:chOff x="1376280" y="5314680"/>
                <a:chExt cx="1800360" cy="519120"/>
              </a:xfrm>
            </p:grpSpPr>
            <p:sp>
              <p:nvSpPr>
                <p:cNvPr id="911" name="Rectangle 34"/>
                <p:cNvSpPr/>
                <p:nvPr/>
              </p:nvSpPr>
              <p:spPr>
                <a:xfrm>
                  <a:off x="1422000" y="5314680"/>
                  <a:ext cx="170856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Alleinse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2" name="Rectangle 98"/>
                <p:cNvSpPr/>
                <p:nvPr/>
              </p:nvSpPr>
              <p:spPr>
                <a:xfrm>
                  <a:off x="1376280" y="5314680"/>
                  <a:ext cx="180036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3" name="Group 101"/>
              <p:cNvGrpSpPr/>
              <p:nvPr/>
            </p:nvGrpSpPr>
            <p:grpSpPr>
              <a:xfrm>
                <a:off x="3177000" y="5314680"/>
                <a:ext cx="1279440" cy="519120"/>
                <a:chOff x="3177000" y="5314680"/>
                <a:chExt cx="1279440" cy="519120"/>
              </a:xfrm>
            </p:grpSpPr>
            <p:sp>
              <p:nvSpPr>
                <p:cNvPr id="914" name="Rectangle 35"/>
                <p:cNvSpPr/>
                <p:nvPr/>
              </p:nvSpPr>
              <p:spPr>
                <a:xfrm>
                  <a:off x="3223080" y="5314680"/>
                  <a:ext cx="118728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2.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5" name="Rectangle 100"/>
                <p:cNvSpPr/>
                <p:nvPr/>
              </p:nvSpPr>
              <p:spPr>
                <a:xfrm>
                  <a:off x="3177000" y="5314680"/>
                  <a:ext cx="127944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6" name="Group 103"/>
              <p:cNvGrpSpPr/>
              <p:nvPr/>
            </p:nvGrpSpPr>
            <p:grpSpPr>
              <a:xfrm>
                <a:off x="4456800" y="5314680"/>
                <a:ext cx="1540080" cy="519120"/>
                <a:chOff x="4456800" y="5314680"/>
                <a:chExt cx="1540080" cy="519120"/>
              </a:xfrm>
            </p:grpSpPr>
            <p:sp>
              <p:nvSpPr>
                <p:cNvPr id="917" name="Rectangle 36"/>
                <p:cNvSpPr/>
                <p:nvPr/>
              </p:nvSpPr>
              <p:spPr>
                <a:xfrm>
                  <a:off x="4502880" y="5314680"/>
                  <a:ext cx="144792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8" name="Rectangle 102"/>
                <p:cNvSpPr/>
                <p:nvPr/>
              </p:nvSpPr>
              <p:spPr>
                <a:xfrm>
                  <a:off x="4456800" y="5314680"/>
                  <a:ext cx="154008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9" name="Group 105"/>
              <p:cNvGrpSpPr/>
              <p:nvPr/>
            </p:nvGrpSpPr>
            <p:grpSpPr>
              <a:xfrm>
                <a:off x="5997600" y="5314680"/>
                <a:ext cx="1540080" cy="519120"/>
                <a:chOff x="5997600" y="5314680"/>
                <a:chExt cx="1540080" cy="519120"/>
              </a:xfrm>
            </p:grpSpPr>
            <p:sp>
              <p:nvSpPr>
                <p:cNvPr id="920" name="Rectangle 37"/>
                <p:cNvSpPr/>
                <p:nvPr/>
              </p:nvSpPr>
              <p:spPr>
                <a:xfrm>
                  <a:off x="6043680" y="5314680"/>
                  <a:ext cx="144756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9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1" name="Rectangle 104"/>
                <p:cNvSpPr/>
                <p:nvPr/>
              </p:nvSpPr>
              <p:spPr>
                <a:xfrm>
                  <a:off x="5997600" y="5314680"/>
                  <a:ext cx="154008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2" name="Group 107"/>
              <p:cNvGrpSpPr/>
              <p:nvPr/>
            </p:nvGrpSpPr>
            <p:grpSpPr>
              <a:xfrm>
                <a:off x="1376280" y="5833800"/>
                <a:ext cx="1800360" cy="519120"/>
                <a:chOff x="1376280" y="5833800"/>
                <a:chExt cx="1800360" cy="519120"/>
              </a:xfrm>
            </p:grpSpPr>
            <p:sp>
              <p:nvSpPr>
                <p:cNvPr id="923" name="Rectangle 38"/>
                <p:cNvSpPr/>
                <p:nvPr/>
              </p:nvSpPr>
              <p:spPr>
                <a:xfrm>
                  <a:off x="1422000" y="5833800"/>
                  <a:ext cx="170856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Mit dem Bo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4" name="Rectangle 106"/>
                <p:cNvSpPr/>
                <p:nvPr/>
              </p:nvSpPr>
              <p:spPr>
                <a:xfrm>
                  <a:off x="1376280" y="5833800"/>
                  <a:ext cx="180036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5" name="Group 109"/>
              <p:cNvGrpSpPr/>
              <p:nvPr/>
            </p:nvGrpSpPr>
            <p:grpSpPr>
              <a:xfrm>
                <a:off x="3177000" y="5833800"/>
                <a:ext cx="1279440" cy="519120"/>
                <a:chOff x="3177000" y="5833800"/>
                <a:chExt cx="1279440" cy="519120"/>
              </a:xfrm>
            </p:grpSpPr>
            <p:sp>
              <p:nvSpPr>
                <p:cNvPr id="926" name="Rectangle 39"/>
                <p:cNvSpPr/>
                <p:nvPr/>
              </p:nvSpPr>
              <p:spPr>
                <a:xfrm>
                  <a:off x="3223080" y="5833800"/>
                  <a:ext cx="118728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2.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7" name="Rectangle 108"/>
                <p:cNvSpPr/>
                <p:nvPr/>
              </p:nvSpPr>
              <p:spPr>
                <a:xfrm>
                  <a:off x="3177000" y="5833800"/>
                  <a:ext cx="127944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8" name="Group 111"/>
              <p:cNvGrpSpPr/>
              <p:nvPr/>
            </p:nvGrpSpPr>
            <p:grpSpPr>
              <a:xfrm>
                <a:off x="4456800" y="5833800"/>
                <a:ext cx="1540080" cy="519120"/>
                <a:chOff x="4456800" y="5833800"/>
                <a:chExt cx="1540080" cy="519120"/>
              </a:xfrm>
            </p:grpSpPr>
            <p:sp>
              <p:nvSpPr>
                <p:cNvPr id="929" name="Rectangle 40"/>
                <p:cNvSpPr/>
                <p:nvPr/>
              </p:nvSpPr>
              <p:spPr>
                <a:xfrm>
                  <a:off x="4502880" y="5833800"/>
                  <a:ext cx="144792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2.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0" name="Rectangle 110"/>
                <p:cNvSpPr/>
                <p:nvPr/>
              </p:nvSpPr>
              <p:spPr>
                <a:xfrm>
                  <a:off x="4456800" y="5833800"/>
                  <a:ext cx="154008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1" name="Group 113"/>
              <p:cNvGrpSpPr/>
              <p:nvPr/>
            </p:nvGrpSpPr>
            <p:grpSpPr>
              <a:xfrm>
                <a:off x="5997600" y="5833800"/>
                <a:ext cx="1540080" cy="519120"/>
                <a:chOff x="5997600" y="5833800"/>
                <a:chExt cx="1540080" cy="519120"/>
              </a:xfrm>
            </p:grpSpPr>
            <p:sp>
              <p:nvSpPr>
                <p:cNvPr id="932" name="Rectangle 41"/>
                <p:cNvSpPr/>
                <p:nvPr/>
              </p:nvSpPr>
              <p:spPr>
                <a:xfrm>
                  <a:off x="6043680" y="5833800"/>
                  <a:ext cx="1447560" cy="519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ea typeface="Times New Roman"/>
                    </a:rPr>
                    <a:t>5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3" name="Rectangle 112"/>
                <p:cNvSpPr/>
                <p:nvPr/>
              </p:nvSpPr>
              <p:spPr>
                <a:xfrm>
                  <a:off x="5997600" y="5833800"/>
                  <a:ext cx="1540080" cy="519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34" name="Rectangle 115"/>
            <p:cNvSpPr/>
            <p:nvPr/>
          </p:nvSpPr>
          <p:spPr>
            <a:xfrm>
              <a:off x="1371600" y="914400"/>
              <a:ext cx="6171840" cy="54432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5" name="Rectangle 117"/>
          <p:cNvSpPr/>
          <p:nvPr/>
        </p:nvSpPr>
        <p:spPr>
          <a:xfrm>
            <a:off x="3240" y="61484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6" name="Picture 2" descr=""/>
          <p:cNvPicPr/>
          <p:nvPr/>
        </p:nvPicPr>
        <p:blipFill>
          <a:blip r:embed="rId1"/>
          <a:stretch/>
        </p:blipFill>
        <p:spPr>
          <a:xfrm>
            <a:off x="2268360" y="19080"/>
            <a:ext cx="4464360" cy="678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82692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eispiele für glücksrelevante Fragen beim Wohnen</a:t>
            </a:r>
            <a:endParaRPr b="0" lang="en-US" sz="4000" spc="-1" strike="noStrike">
              <a:solidFill>
                <a:srgbClr val="000000"/>
              </a:solidFill>
              <a:latin typeface="Calibri"/>
            </a:endParaRPr>
          </a:p>
        </p:txBody>
      </p:sp>
      <p:sp>
        <p:nvSpPr>
          <p:cNvPr id="938" name="Rectangle 19"/>
          <p:cNvSpPr/>
          <p:nvPr/>
        </p:nvSpPr>
        <p:spPr>
          <a:xfrm>
            <a:off x="0" y="2708280"/>
            <a:ext cx="738360" cy="3079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53964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Verdichtung versus Wohlbefinden</a:t>
            </a:r>
            <a:br>
              <a:rPr sz="4000"/>
            </a:br>
            <a:endParaRPr b="0" lang="en-US" sz="4000" spc="-1" strike="noStrike">
              <a:solidFill>
                <a:srgbClr val="000000"/>
              </a:solidFill>
              <a:latin typeface="Calibri"/>
            </a:endParaRPr>
          </a:p>
        </p:txBody>
      </p:sp>
      <p:sp>
        <p:nvSpPr>
          <p:cNvPr id="940" name=""/>
          <p:cNvSpPr txBox="1"/>
          <p:nvPr/>
        </p:nvSpPr>
        <p:spPr>
          <a:xfrm>
            <a:off x="1332000" y="198432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Calibri"/>
              </a:rPr>
              <a:t>Macht es glücklich, wenn überall verdichtet gebaut wird, so dass die Zahl der Menschen pro bebauter Wohnfläche immer mehr zunimmt?</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1" name="Rectangle 19"/>
          <p:cNvSpPr/>
          <p:nvPr/>
        </p:nvSpPr>
        <p:spPr>
          <a:xfrm>
            <a:off x="0" y="2708280"/>
            <a:ext cx="738360" cy="3079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108000" y="274320"/>
            <a:ext cx="88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Calibri"/>
              </a:rPr>
              <a:t>Verdichtetes Bauen: </a:t>
            </a:r>
            <a:br>
              <a:rPr sz="3600"/>
            </a:br>
            <a:r>
              <a:rPr b="1" lang="de-CH" sz="3600" spc="-1" strike="noStrike">
                <a:solidFill>
                  <a:srgbClr val="000000"/>
                </a:solidFill>
                <a:latin typeface="Calibri"/>
              </a:rPr>
              <a:t>Enger zusammenrücken und sich wohlfühlen?</a:t>
            </a:r>
            <a:endParaRPr b="0" lang="en-US" sz="3600" spc="-1" strike="noStrike">
              <a:solidFill>
                <a:srgbClr val="000000"/>
              </a:solidFill>
              <a:latin typeface="Calibri"/>
            </a:endParaRPr>
          </a:p>
        </p:txBody>
      </p:sp>
      <p:sp>
        <p:nvSpPr>
          <p:cNvPr id="945" name=""/>
          <p:cNvSpPr txBox="1"/>
          <p:nvPr/>
        </p:nvSpPr>
        <p:spPr>
          <a:xfrm>
            <a:off x="914400" y="198612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18191b"/>
                </a:solidFill>
                <a:latin typeface="chm-serif"/>
              </a:rPr>
              <a:t>«Mit Verdichtung können Wohnquartiere entstehen mit guten Einkaufs-, Gastronomie- und Freizeitangeboten, aber auch kurzen Wegen zur Arbeit oder in die Schule. In der Regel macht laut der Studie Verdichtung ein Quartier jünger, da vor allem Jüngere sich von lebendigen Zentren angezogen fühlen.»</a:t>
            </a:r>
            <a:endParaRPr b="0" lang="en-US" sz="32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18191b"/>
                </a:solidFill>
                <a:latin typeface="chm-serif"/>
              </a:rPr>
              <a:t>(Studie im Auftrag des Städteverbande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6" name="Rectangle 19"/>
          <p:cNvSpPr/>
          <p:nvPr/>
        </p:nvSpPr>
        <p:spPr>
          <a:xfrm>
            <a:off x="0" y="2708280"/>
            <a:ext cx="738360" cy="3079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er wo ist die Grenze? Hyperverdichtung</a:t>
            </a:r>
            <a:endParaRPr b="0" lang="en-US" sz="4400" spc="-1" strike="noStrike">
              <a:solidFill>
                <a:srgbClr val="000000"/>
              </a:solidFill>
              <a:latin typeface="Calibri"/>
            </a:endParaRPr>
          </a:p>
        </p:txBody>
      </p:sp>
      <p:pic>
        <p:nvPicPr>
          <p:cNvPr id="948" name="Picture 2" descr="Bildergebnis für verdichtetes bauen beispiele"/>
          <p:cNvPicPr/>
          <p:nvPr/>
        </p:nvPicPr>
        <p:blipFill>
          <a:blip r:embed="rId1"/>
          <a:stretch/>
        </p:blipFill>
        <p:spPr>
          <a:xfrm>
            <a:off x="1139760" y="1557360"/>
            <a:ext cx="6864480" cy="51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53964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ünflächen und Wohlbefinden</a:t>
            </a:r>
            <a:br>
              <a:rPr sz="4000"/>
            </a:br>
            <a:endParaRPr b="0" lang="en-US" sz="4000" spc="-1" strike="noStrike">
              <a:solidFill>
                <a:srgbClr val="000000"/>
              </a:solidFill>
              <a:latin typeface="Calibri"/>
            </a:endParaRPr>
          </a:p>
        </p:txBody>
      </p:sp>
      <p:sp>
        <p:nvSpPr>
          <p:cNvPr id="950" name=""/>
          <p:cNvSpPr txBox="1"/>
          <p:nvPr/>
        </p:nvSpPr>
        <p:spPr>
          <a:xfrm>
            <a:off x="1042920" y="198612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Calibri"/>
              </a:rPr>
              <a:t>Macht es glücklich, wenn man in nächster Umgebung Grünflächen hat, die einem für Erholung zur Verfügung stehen?</a:t>
            </a:r>
            <a:endParaRPr b="0" lang="en-US" sz="4000" spc="-1" strike="noStrike">
              <a:solidFill>
                <a:srgbClr val="000000"/>
              </a:solidFill>
              <a:latin typeface="Calibri"/>
            </a:endParaRPr>
          </a:p>
        </p:txBody>
      </p:sp>
      <p:sp>
        <p:nvSpPr>
          <p:cNvPr id="951" name="Rectangle 19"/>
          <p:cNvSpPr/>
          <p:nvPr/>
        </p:nvSpPr>
        <p:spPr>
          <a:xfrm>
            <a:off x="0" y="2708280"/>
            <a:ext cx="738360" cy="3079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08000" y="274320"/>
            <a:ext cx="88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Calibri"/>
              </a:rPr>
              <a:t>Grünflächen sind wichtig für die Lebenszufriedenheit</a:t>
            </a:r>
            <a:endParaRPr b="0" lang="en-US" sz="3600" spc="-1" strike="noStrike">
              <a:solidFill>
                <a:srgbClr val="000000"/>
              </a:solidFill>
              <a:latin typeface="Calibri"/>
            </a:endParaRPr>
          </a:p>
        </p:txBody>
      </p:sp>
      <p:sp>
        <p:nvSpPr>
          <p:cNvPr id="955" name=""/>
          <p:cNvSpPr txBox="1"/>
          <p:nvPr/>
        </p:nvSpPr>
        <p:spPr>
          <a:xfrm>
            <a:off x="914400" y="198612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Wissenschaftler der Universität Exeter wollten herausfinden, wie wichtig Grün für den Menschen ist. Das Ergebnis: Personen, die in der Nähe von Grün­flä­chen leben, haben weniger Stress und eine höhere Le­bens­zu­frie­den­heit. Deutlich wurde das, wenn Menschen ihren Wohnort wechselten.</a:t>
            </a:r>
            <a:endParaRPr b="0" lang="en-US" sz="3200" spc="-1" strike="noStrike">
              <a:solidFill>
                <a:srgbClr val="000000"/>
              </a:solidFill>
              <a:latin typeface="Calibri"/>
            </a:endParaRPr>
          </a:p>
        </p:txBody>
      </p:sp>
      <p:sp>
        <p:nvSpPr>
          <p:cNvPr id="956" name="Rectangle 19"/>
          <p:cNvSpPr/>
          <p:nvPr/>
        </p:nvSpPr>
        <p:spPr>
          <a:xfrm>
            <a:off x="0" y="2708280"/>
            <a:ext cx="738360" cy="3079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539640" y="65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958" name=""/>
          <p:cNvSpPr txBox="1"/>
          <p:nvPr/>
        </p:nvSpPr>
        <p:spPr>
          <a:xfrm>
            <a:off x="914400" y="213372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Calibri"/>
              </a:rPr>
              <a:t>Macht es glücklich allein in riesigen Wohnungen oder Häusern mit entsprechendem Raumgefühl zu leben?</a:t>
            </a:r>
            <a:endParaRPr b="0" lang="en-US" sz="4000" spc="-1" strike="noStrike">
              <a:solidFill>
                <a:srgbClr val="000000"/>
              </a:solidFill>
              <a:latin typeface="Calibri"/>
            </a:endParaRPr>
          </a:p>
        </p:txBody>
      </p:sp>
      <p:sp>
        <p:nvSpPr>
          <p:cNvPr id="959" name="Rectangle 19"/>
          <p:cNvSpPr/>
          <p:nvPr/>
        </p:nvSpPr>
        <p:spPr>
          <a:xfrm>
            <a:off x="0" y="2708280"/>
            <a:ext cx="738360" cy="3079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Rechteck 7"/>
          <p:cNvSpPr/>
          <p:nvPr/>
        </p:nvSpPr>
        <p:spPr>
          <a:xfrm>
            <a:off x="1403280" y="297000"/>
            <a:ext cx="630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000" spc="-1" strike="noStrike">
                <a:solidFill>
                  <a:srgbClr val="000000"/>
                </a:solidFill>
                <a:latin typeface="Calibri"/>
              </a:rPr>
              <a:t>Komfortables Wohnen versus Geborgenhe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Content Placeholder 2" descr=""/>
          <p:cNvPicPr/>
          <p:nvPr/>
        </p:nvPicPr>
        <p:blipFill>
          <a:blip r:embed="rId1"/>
          <a:stretch/>
        </p:blipFill>
        <p:spPr>
          <a:xfrm>
            <a:off x="2484360" y="9360"/>
            <a:ext cx="4300560" cy="6848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Calibri"/>
              </a:rPr>
              <a:t>Urbaner Schick - Wohnen mit Raumgefühl: Loft im Zürcher Lagerhaus</a:t>
            </a:r>
            <a:endParaRPr b="0" lang="en-US" sz="3200" spc="-1" strike="noStrike">
              <a:solidFill>
                <a:srgbClr val="000000"/>
              </a:solidFill>
              <a:latin typeface="Calibri"/>
            </a:endParaRPr>
          </a:p>
        </p:txBody>
      </p:sp>
      <p:pic>
        <p:nvPicPr>
          <p:cNvPr id="964" name="Picture 2" descr="Bildergebnis für raumgefühl"/>
          <p:cNvPicPr/>
          <p:nvPr/>
        </p:nvPicPr>
        <p:blipFill>
          <a:blip r:embed="rId1"/>
          <a:stretch/>
        </p:blipFill>
        <p:spPr>
          <a:xfrm>
            <a:off x="905040" y="1916280"/>
            <a:ext cx="7333920" cy="4324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Calibri"/>
              </a:rPr>
              <a:t>Oder Wohnglück auf minimaler Fläche? </a:t>
            </a:r>
            <a:br>
              <a:rPr sz="3200"/>
            </a:br>
            <a:r>
              <a:rPr b="0" lang="de-CH" sz="2400" spc="-1" strike="noStrike">
                <a:solidFill>
                  <a:srgbClr val="000000"/>
                </a:solidFill>
                <a:latin typeface="Calibri"/>
              </a:rPr>
              <a:t>(bauschweiz.ch)</a:t>
            </a:r>
            <a:endParaRPr b="0" lang="en-US" sz="2400" spc="-1" strike="noStrike">
              <a:solidFill>
                <a:srgbClr val="000000"/>
              </a:solidFill>
              <a:latin typeface="Calibri"/>
            </a:endParaRPr>
          </a:p>
        </p:txBody>
      </p:sp>
      <p:pic>
        <p:nvPicPr>
          <p:cNvPr id="966" name="Grafik 1" descr=""/>
          <p:cNvPicPr/>
          <p:nvPr/>
        </p:nvPicPr>
        <p:blipFill>
          <a:blip r:embed="rId1"/>
          <a:stretch/>
        </p:blipFill>
        <p:spPr>
          <a:xfrm>
            <a:off x="762120" y="1417680"/>
            <a:ext cx="7619760" cy="5086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539640" y="65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968" name=""/>
          <p:cNvSpPr txBox="1"/>
          <p:nvPr/>
        </p:nvSpPr>
        <p:spPr>
          <a:xfrm>
            <a:off x="914400" y="213372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Calibri"/>
              </a:rPr>
              <a:t>Macht die Realisierung des Traums vom Eigenheim glücklich?</a:t>
            </a:r>
            <a:endParaRPr b="0" lang="en-US" sz="4000" spc="-1" strike="noStrike">
              <a:solidFill>
                <a:srgbClr val="000000"/>
              </a:solidFill>
              <a:latin typeface="Calibri"/>
            </a:endParaRPr>
          </a:p>
        </p:txBody>
      </p:sp>
      <p:sp>
        <p:nvSpPr>
          <p:cNvPr id="969" name="Rectangle 19"/>
          <p:cNvSpPr/>
          <p:nvPr/>
        </p:nvSpPr>
        <p:spPr>
          <a:xfrm>
            <a:off x="0" y="2708280"/>
            <a:ext cx="738360" cy="3079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Rechteck 7"/>
          <p:cNvSpPr/>
          <p:nvPr/>
        </p:nvSpPr>
        <p:spPr>
          <a:xfrm>
            <a:off x="1154160" y="560520"/>
            <a:ext cx="7432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000" spc="-1" strike="noStrike">
                <a:solidFill>
                  <a:srgbClr val="000000"/>
                </a:solidFill>
                <a:latin typeface="Calibri"/>
              </a:rPr>
              <a:t>Traum vom Eigenheim versus gelebte Realität im Eigenhei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60440" y="374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974" name=""/>
          <p:cNvSpPr txBox="1"/>
          <p:nvPr/>
        </p:nvSpPr>
        <p:spPr>
          <a:xfrm>
            <a:off x="930240" y="1903320"/>
            <a:ext cx="8229600" cy="45259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ie Autoren einer Studie werteten die Aussagen von mehr als 800 zukünftigen Eigenheim-besitzerinnen und Besitzern in Deutschland aus, die im German Socio-Economic Pales (GSOEP) erfasst sind. Das Ergebnis: Der "langfristige Zufriedenheitsgewinn" durch ein Eigenheim wird systematisch überschätzt. Die Fehlprognose wird dabei von Hauskäufern getrieben, die extrinsisch orientierte Lebensziele verfolgen, also kurzum statusorientiert sind.</a:t>
            </a:r>
            <a:endParaRPr b="0" lang="en-US" sz="3200" spc="-1" strike="noStrike">
              <a:solidFill>
                <a:srgbClr val="000000"/>
              </a:solidFill>
              <a:latin typeface="Calibri"/>
            </a:endParaRPr>
          </a:p>
        </p:txBody>
      </p:sp>
      <p:sp>
        <p:nvSpPr>
          <p:cNvPr id="975" name="Rectangle 19"/>
          <p:cNvSpPr/>
          <p:nvPr/>
        </p:nvSpPr>
        <p:spPr>
          <a:xfrm>
            <a:off x="0" y="2708280"/>
            <a:ext cx="738360" cy="3079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Rechteck 8"/>
          <p:cNvSpPr/>
          <p:nvPr/>
        </p:nvSpPr>
        <p:spPr>
          <a:xfrm>
            <a:off x="738360" y="409680"/>
            <a:ext cx="7794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000" spc="-1" strike="noStrike">
                <a:solidFill>
                  <a:srgbClr val="000000"/>
                </a:solidFill>
                <a:latin typeface="Calibri"/>
              </a:rPr>
              <a:t>Längerfristig kein Glücksgewinn durch Eigenhei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60440" y="374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980" name=""/>
          <p:cNvSpPr txBox="1"/>
          <p:nvPr/>
        </p:nvSpPr>
        <p:spPr>
          <a:xfrm>
            <a:off x="914400" y="213372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Calibri"/>
              </a:rPr>
              <a:t>Macht es glücklich, wenn Menschen naturnah in Einfamilienhäusern leben, die aber immer weiter von ihrem Arbeitsplatz entfernt sind?</a:t>
            </a:r>
            <a:endParaRPr b="0" lang="en-US" sz="4000" spc="-1" strike="noStrike">
              <a:solidFill>
                <a:srgbClr val="000000"/>
              </a:solidFill>
              <a:latin typeface="Calibri"/>
            </a:endParaRPr>
          </a:p>
        </p:txBody>
      </p:sp>
      <p:sp>
        <p:nvSpPr>
          <p:cNvPr id="981" name="Rectangle 19"/>
          <p:cNvSpPr/>
          <p:nvPr/>
        </p:nvSpPr>
        <p:spPr>
          <a:xfrm>
            <a:off x="0" y="2708280"/>
            <a:ext cx="738360" cy="3079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Rechteck 8"/>
          <p:cNvSpPr/>
          <p:nvPr/>
        </p:nvSpPr>
        <p:spPr>
          <a:xfrm>
            <a:off x="738360" y="409680"/>
            <a:ext cx="7794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000" spc="-1" strike="noStrike">
                <a:solidFill>
                  <a:srgbClr val="000000"/>
                </a:solidFill>
                <a:latin typeface="Calibri"/>
              </a:rPr>
              <a:t>Komfortables Wohnen in der Natur versus Pendlerstr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5" name="Picture 3" descr="crowded%20train_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000" spc="-1" strike="noStrike">
                <a:solidFill>
                  <a:srgbClr val="000000"/>
                </a:solidFill>
                <a:latin typeface="Calibri"/>
              </a:rPr>
              <a:t>Commuting and Satisfaction with Life</a:t>
            </a:r>
            <a:br>
              <a:rPr sz="3000"/>
            </a:br>
            <a:endParaRPr b="0" lang="en-US" sz="3000" spc="-1" strike="noStrike">
              <a:solidFill>
                <a:srgbClr val="000000"/>
              </a:solidFill>
              <a:latin typeface="Calibri"/>
            </a:endParaRPr>
          </a:p>
        </p:txBody>
      </p:sp>
      <p:pic>
        <p:nvPicPr>
          <p:cNvPr id="987" name="Picture 3" descr=""/>
          <p:cNvPicPr/>
          <p:nvPr/>
        </p:nvPicPr>
        <p:blipFill>
          <a:blip r:embed="rId1"/>
          <a:stretch/>
        </p:blipFill>
        <p:spPr>
          <a:xfrm>
            <a:off x="826920" y="1557360"/>
            <a:ext cx="7786800" cy="4525920"/>
          </a:xfrm>
          <a:prstGeom prst="rect">
            <a:avLst/>
          </a:prstGeom>
          <a:ln w="0">
            <a:noFill/>
          </a:ln>
        </p:spPr>
      </p:pic>
      <p:sp>
        <p:nvSpPr>
          <p:cNvPr id="988" name="Rectangle 4"/>
          <p:cNvSpPr/>
          <p:nvPr/>
        </p:nvSpPr>
        <p:spPr>
          <a:xfrm>
            <a:off x="472320" y="6359400"/>
            <a:ext cx="24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Times New Roman"/>
              </a:rPr>
              <a:t>Source: Frey and Stutzer (200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9" name="Grafik 1" descr=""/>
          <p:cNvPicPr/>
          <p:nvPr/>
        </p:nvPicPr>
        <p:blipFill>
          <a:blip r:embed="rId1"/>
          <a:stretch/>
        </p:blipFill>
        <p:spPr>
          <a:xfrm>
            <a:off x="826920" y="1700280"/>
            <a:ext cx="7086600" cy="5315040"/>
          </a:xfrm>
          <a:prstGeom prst="rect">
            <a:avLst/>
          </a:prstGeom>
          <a:ln w="0">
            <a:noFill/>
          </a:ln>
        </p:spPr>
      </p:pic>
      <p:sp>
        <p:nvSpPr>
          <p:cNvPr id="990" name="Rechteck 8"/>
          <p:cNvSpPr/>
          <p:nvPr/>
        </p:nvSpPr>
        <p:spPr>
          <a:xfrm>
            <a:off x="324000" y="333360"/>
            <a:ext cx="7794360" cy="947160"/>
          </a:xfrm>
          <a:prstGeom prst="rect">
            <a:avLst/>
          </a:prstGeom>
          <a:noFill/>
          <a:ln w="0">
            <a:noFill/>
          </a:ln>
        </p:spPr>
        <p:style>
          <a:lnRef idx="0"/>
          <a:fillRef idx="0"/>
          <a:effectRef idx="0"/>
          <a:fontRef idx="minor"/>
        </p:style>
        <p:txBody>
          <a:bodyPr lIns="90000" rIns="90000" tIns="46800" bIns="46800" anchor="t">
            <a:spAutoFit/>
          </a:bodyPr>
          <a:p>
            <a:pPr lvl="1" marL="536400" indent="-79200"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Calibri"/>
              </a:rPr>
              <a:t>Wie sich die für Pendeln aufgewendete Zeit in der Schweiz verändert h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Fazit</a:t>
            </a:r>
            <a:endParaRPr b="0" lang="en-US" sz="4400" spc="-1" strike="noStrike">
              <a:solidFill>
                <a:srgbClr val="000000"/>
              </a:solidFill>
              <a:latin typeface="Calibri"/>
            </a:endParaRPr>
          </a:p>
        </p:txBody>
      </p:sp>
      <p:sp>
        <p:nvSpPr>
          <p:cNvPr id="992" name=""/>
          <p:cNvSpPr txBox="1"/>
          <p:nvPr/>
        </p:nvSpPr>
        <p:spPr>
          <a:xfrm>
            <a:off x="684360" y="1557000"/>
            <a:ext cx="8362800" cy="4995720"/>
          </a:xfrm>
          <a:prstGeom prst="rect">
            <a:avLst/>
          </a:prstGeom>
          <a:noFill/>
          <a:ln w="0">
            <a:noFill/>
          </a:ln>
        </p:spPr>
        <p:txBody>
          <a:bodyPr anchor="t">
            <a:normAutofit/>
          </a:bodyPr>
          <a:p>
            <a:pPr marL="341280" indent="-34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000" spc="-1" strike="noStrike">
                <a:solidFill>
                  <a:srgbClr val="000000"/>
                </a:solidFill>
                <a:latin typeface="Calibri"/>
              </a:rPr>
              <a:t>Das Glück der Menschen wird durch die Räume beeinflusst, in denen sie leben.</a:t>
            </a:r>
            <a:endParaRPr b="0" lang="en-US" sz="3000" spc="-1" strike="noStrike">
              <a:solidFill>
                <a:srgbClr val="000000"/>
              </a:solidFill>
              <a:latin typeface="Calibri"/>
            </a:endParaRPr>
          </a:p>
          <a:p>
            <a:pPr marL="341280" indent="-34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000" spc="-1" strike="noStrike">
                <a:solidFill>
                  <a:srgbClr val="000000"/>
                </a:solidFill>
                <a:latin typeface="Calibri"/>
              </a:rPr>
              <a:t>Es kommt mehr auf die täglichen Umstände der Wohnsituation an, als auf die geographische Situation (Stadt oder Land).</a:t>
            </a:r>
            <a:endParaRPr b="0" lang="en-US" sz="3000" spc="-1" strike="noStrike">
              <a:solidFill>
                <a:srgbClr val="000000"/>
              </a:solidFill>
              <a:latin typeface="Calibri"/>
            </a:endParaRPr>
          </a:p>
          <a:p>
            <a:pPr marL="341280" indent="-34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000" spc="-1" strike="noStrike">
                <a:solidFill>
                  <a:srgbClr val="000000"/>
                </a:solidFill>
                <a:latin typeface="Calibri"/>
              </a:rPr>
              <a:t>Lebenswerte Räume sind auch dadurch charakterisiert, dass sich Kontakte zu andern Menschen zwanglos ergeben.</a:t>
            </a:r>
            <a:endParaRPr b="0" lang="en-US" sz="3000" spc="-1" strike="noStrike">
              <a:solidFill>
                <a:srgbClr val="000000"/>
              </a:solidFill>
              <a:latin typeface="Calibri"/>
            </a:endParaRPr>
          </a:p>
          <a:p>
            <a:pPr marL="341280" indent="-34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Das angeblich mit dem Eigenheim im Grünen verbundene Glück wird systematisch überschätzt.</a:t>
            </a:r>
            <a:endParaRPr b="0" lang="en-US" sz="3000" spc="-1" strike="noStrike">
              <a:solidFill>
                <a:srgbClr val="000000"/>
              </a:solidFill>
              <a:latin typeface="Calibri"/>
            </a:endParaRPr>
          </a:p>
          <a:p>
            <a:pPr marL="341280" indent="-34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3" name="Rectangle 19"/>
          <p:cNvSpPr/>
          <p:nvPr/>
        </p:nvSpPr>
        <p:spPr>
          <a:xfrm>
            <a:off x="0" y="2708280"/>
            <a:ext cx="738360" cy="3079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Picture 4" descr="scan0001"/>
          <p:cNvPicPr/>
          <p:nvPr/>
        </p:nvPicPr>
        <p:blipFill>
          <a:blip r:embed="rId1"/>
          <a:stretch/>
        </p:blipFill>
        <p:spPr>
          <a:xfrm>
            <a:off x="2940120" y="762120"/>
            <a:ext cx="4017960" cy="6095880"/>
          </a:xfrm>
          <a:prstGeom prst="rect">
            <a:avLst/>
          </a:prstGeom>
          <a:ln w="0">
            <a:noFill/>
          </a:ln>
        </p:spPr>
      </p:pic>
      <p:sp>
        <p:nvSpPr>
          <p:cNvPr id="585" name="Text Box 6"/>
          <p:cNvSpPr/>
          <p:nvPr/>
        </p:nvSpPr>
        <p:spPr>
          <a:xfrm>
            <a:off x="685800" y="304920"/>
            <a:ext cx="8077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333399"/>
                </a:solidFill>
                <a:latin typeface="Arial"/>
              </a:rPr>
              <a:t>Missionswerk Werner Heukelb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ubTitle"/>
          </p:nvPr>
        </p:nvSpPr>
        <p:spPr>
          <a:xfrm>
            <a:off x="533520" y="533520"/>
            <a:ext cx="8153280" cy="59436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000" spc="-1" strike="noStrike">
                <a:solidFill>
                  <a:srgbClr val="000000"/>
                </a:solidFill>
                <a:latin typeface="Arial"/>
              </a:rPr>
              <a:t>„</a:t>
            </a:r>
            <a:r>
              <a:rPr b="1" lang="de-CH" sz="4000" spc="-1" strike="noStrike">
                <a:solidFill>
                  <a:srgbClr val="000000"/>
                </a:solidFill>
                <a:latin typeface="Arial"/>
              </a:rPr>
              <a:t>Ökonomie ist die Kunst, das Beste aus unserem Leben zu machen“</a:t>
            </a:r>
            <a:endParaRPr b="0" lang="en-US" sz="40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George Bernhard Shaw)</a:t>
            </a:r>
            <a:endParaRPr b="0" lang="en-US" sz="3200" spc="-1" strike="noStrike">
              <a:solidFill>
                <a:srgbClr val="000000"/>
              </a:solidFill>
              <a:latin typeface="Arial"/>
            </a:endParaRPr>
          </a:p>
        </p:txBody>
      </p:sp>
      <p:sp>
        <p:nvSpPr>
          <p:cNvPr id="587" name="Rectangle 1028"/>
          <p:cNvSpPr/>
          <p:nvPr/>
        </p:nvSpPr>
        <p:spPr>
          <a:xfrm>
            <a:off x="0" y="2708280"/>
            <a:ext cx="738360" cy="3079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8" name="Object 1029"/>
          <p:cNvGraphicFramePr/>
          <p:nvPr/>
        </p:nvGraphicFramePr>
        <p:xfrm>
          <a:off x="250920" y="260280"/>
          <a:ext cx="3276360" cy="752400"/>
        </p:xfrm>
        <a:graphic>
          <a:graphicData uri="http://schemas.openxmlformats.org/presentationml/2006/ole">
            <p:oleObj r:id="rId1" spid="">
              <p:embed/>
              <p:pic>
                <p:nvPicPr>
                  <p:cNvPr id="589" name="Object 1029" descr=""/>
                  <p:cNvPicPr/>
                  <p:nvPr/>
                </p:nvPicPr>
                <p:blipFill>
                  <a:blip r:embed="rId2"/>
                  <a:stretch/>
                </p:blipFill>
                <p:spPr>
                  <a:xfrm>
                    <a:off x="250920" y="260280"/>
                    <a:ext cx="3276360" cy="75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1027" descr="buggybig"/>
          <p:cNvPicPr/>
          <p:nvPr/>
        </p:nvPicPr>
        <p:blipFill>
          <a:blip r:embed="rId1"/>
          <a:stretch/>
        </p:blipFill>
        <p:spPr>
          <a:xfrm>
            <a:off x="1523880" y="304920"/>
            <a:ext cx="5916600" cy="632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6" descr="FHNW_20%"/>
          <p:cNvPicPr/>
          <p:nvPr/>
        </p:nvPicPr>
        <p:blipFill>
          <a:blip r:embed="rId1"/>
          <a:stretch/>
        </p:blipFill>
        <p:spPr>
          <a:xfrm>
            <a:off x="4414680" y="3392640"/>
            <a:ext cx="314640" cy="72720"/>
          </a:xfrm>
          <a:prstGeom prst="rect">
            <a:avLst/>
          </a:prstGeom>
          <a:ln w="0">
            <a:noFill/>
          </a:ln>
        </p:spPr>
      </p:pic>
      <p:sp>
        <p:nvSpPr>
          <p:cNvPr id="592" name="TextBox 2"/>
          <p:cNvSpPr/>
          <p:nvPr/>
        </p:nvSpPr>
        <p:spPr>
          <a:xfrm>
            <a:off x="635040" y="750960"/>
            <a:ext cx="7559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World Happines Report 2022</a:t>
            </a:r>
            <a:endParaRPr b="0" lang="en-US" sz="3200" spc="-1" strike="noStrike">
              <a:solidFill>
                <a:srgbClr val="000000"/>
              </a:solidFill>
              <a:latin typeface="Arial"/>
            </a:endParaRPr>
          </a:p>
        </p:txBody>
      </p:sp>
      <p:pic>
        <p:nvPicPr>
          <p:cNvPr id="593" name="Grafik 1" descr=""/>
          <p:cNvPicPr/>
          <p:nvPr/>
        </p:nvPicPr>
        <p:blipFill>
          <a:blip r:embed="rId2"/>
          <a:stretch/>
        </p:blipFill>
        <p:spPr>
          <a:xfrm>
            <a:off x="-108000" y="2060640"/>
            <a:ext cx="9482040" cy="375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6" descr="FHNW_20%"/>
          <p:cNvPicPr/>
          <p:nvPr/>
        </p:nvPicPr>
        <p:blipFill>
          <a:blip r:embed="rId1"/>
          <a:stretch/>
        </p:blipFill>
        <p:spPr>
          <a:xfrm>
            <a:off x="4414680" y="3392640"/>
            <a:ext cx="314640" cy="72720"/>
          </a:xfrm>
          <a:prstGeom prst="rect">
            <a:avLst/>
          </a:prstGeom>
          <a:ln w="0">
            <a:noFill/>
          </a:ln>
        </p:spPr>
      </p:pic>
      <p:sp>
        <p:nvSpPr>
          <p:cNvPr id="595" name="TextBox 2"/>
          <p:cNvSpPr/>
          <p:nvPr/>
        </p:nvSpPr>
        <p:spPr>
          <a:xfrm>
            <a:off x="635040" y="750960"/>
            <a:ext cx="7559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World Happines Report 2022</a:t>
            </a:r>
            <a:endParaRPr b="0" lang="en-US" sz="3200" spc="-1" strike="noStrike">
              <a:solidFill>
                <a:srgbClr val="000000"/>
              </a:solidFill>
              <a:latin typeface="Arial"/>
            </a:endParaRPr>
          </a:p>
        </p:txBody>
      </p:sp>
      <p:pic>
        <p:nvPicPr>
          <p:cNvPr id="596" name="Grafik 2" descr=""/>
          <p:cNvPicPr/>
          <p:nvPr/>
        </p:nvPicPr>
        <p:blipFill>
          <a:blip r:embed="rId2"/>
          <a:stretch/>
        </p:blipFill>
        <p:spPr>
          <a:xfrm>
            <a:off x="826920" y="1628640"/>
            <a:ext cx="8523360" cy="483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Grafik 1" descr=""/>
          <p:cNvPicPr/>
          <p:nvPr/>
        </p:nvPicPr>
        <p:blipFill>
          <a:blip r:embed="rId1"/>
          <a:stretch/>
        </p:blipFill>
        <p:spPr>
          <a:xfrm>
            <a:off x="324000" y="206280"/>
            <a:ext cx="8839080" cy="6629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Rectangle 4"/>
          <p:cNvSpPr/>
          <p:nvPr/>
        </p:nvSpPr>
        <p:spPr>
          <a:xfrm>
            <a:off x="900000" y="1628640"/>
            <a:ext cx="7772400" cy="48960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Glück beim Ausüben verschiedener Tätigkeiten</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a:t>
            </a:r>
            <a:r>
              <a:rPr b="0" lang="de-CH" sz="3200" spc="-1" strike="noStrike">
                <a:solidFill>
                  <a:srgbClr val="000000"/>
                </a:solidFill>
                <a:latin typeface="Arial"/>
              </a:rPr>
              <a:t>elche Aktivitäten machen die Menschen glücklich und welche unglücklich</a:t>
            </a:r>
            <a:r>
              <a:rPr b="0" lang="de-DE" sz="3200" spc="-1" strike="noStrike">
                <a:solidFill>
                  <a:srgbClr val="000000"/>
                </a:solidFill>
                <a:latin typeface="Arial"/>
              </a:rPr>
              <a:t>?</a:t>
            </a:r>
            <a:endParaRPr b="0" lang="en-US" sz="3200" spc="-1" strike="noStrike">
              <a:solidFill>
                <a:srgbClr val="000000"/>
              </a:solidFill>
              <a:latin typeface="Arial"/>
            </a:endParaRPr>
          </a:p>
        </p:txBody>
      </p:sp>
      <p:sp>
        <p:nvSpPr>
          <p:cNvPr id="600" name="Rectangle 5"/>
          <p:cNvSpPr/>
          <p:nvPr/>
        </p:nvSpPr>
        <p:spPr>
          <a:xfrm>
            <a:off x="0" y="2708280"/>
            <a:ext cx="738360" cy="3079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1" name="Object 6"/>
          <p:cNvGraphicFramePr/>
          <p:nvPr/>
        </p:nvGraphicFramePr>
        <p:xfrm>
          <a:off x="250920" y="260280"/>
          <a:ext cx="3276360" cy="752400"/>
        </p:xfrm>
        <a:graphic>
          <a:graphicData uri="http://schemas.openxmlformats.org/presentationml/2006/ole">
            <p:oleObj r:id="rId1" spid="">
              <p:embed/>
              <p:pic>
                <p:nvPicPr>
                  <p:cNvPr id="602" name="Object 6" descr=""/>
                  <p:cNvPicPr/>
                  <p:nvPr/>
                </p:nvPicPr>
                <p:blipFill>
                  <a:blip r:embed="rId2"/>
                  <a:stretch/>
                </p:blipFill>
                <p:spPr>
                  <a:xfrm>
                    <a:off x="250920" y="260280"/>
                    <a:ext cx="3276360" cy="75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9T21:56:37Z</dcterms:created>
  <dc:creator>mathias.binswanger</dc:creator>
  <dc:description/>
  <dc:language>en-US</dc:language>
  <cp:lastModifiedBy>Microsoft Office-Anwender</cp:lastModifiedBy>
  <dcterms:modified xsi:type="dcterms:W3CDTF">2023-01-22T15:09:00Z</dcterms:modified>
  <cp:revision>158</cp:revision>
  <dc:subject/>
  <dc:title>Folie 1</dc:title>
</cp:coreProperties>
</file>